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B0A86-2683-4CF2-8B2D-3335A417C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953AA-0551-42B4-9617-AB4D1E992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4292F5-5996-4FDA-AE03-A7874BAF8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24911-6642-48D3-A6F1-3C06126FC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28185-F46A-4041-8378-E48766C4F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31457-5FC3-4C01-BEDD-E60908758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FBF98-B3C9-4C75-BDB6-2D75C285A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96C7B-ACAB-4E36-80FC-99099DFAB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D72E9-5EF1-47D2-ADCA-0F85F0C3B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2B843-7C0E-4A5D-BCA4-7F73D543D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6B3A1-CE44-43AB-9D71-47DC41C4C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C2A51-A4A3-4561-A5CF-072495AC7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367A5-9E2B-4448-88F7-E96FDC27B8FD}"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20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YAPI VE KÖKEN BAKIMINDAN DİLLER</a:t>
            </a:r>
            <a:br>
              <a:rPr sz="3600"/>
            </a:br>
            <a:r>
              <a:rPr b="1" lang="tr-TR" sz="3600" spc="-1" strike="noStrike">
                <a:solidFill>
                  <a:srgbClr val="000000"/>
                </a:solidFill>
                <a:latin typeface="Times New Roman"/>
                <a:ea typeface="Times New Roman"/>
              </a:rPr>
              <a:t>TÜRKÇE’NİN DÜNYA DİLLERİ ARASINDAKİ YERİ</a:t>
            </a:r>
            <a:endParaRPr b="0" lang="en-US" sz="3600" spc="-1" strike="noStrike">
              <a:solidFill>
                <a:srgbClr val="000000"/>
              </a:solidFill>
              <a:latin typeface="Calibri"/>
            </a:endParaRPr>
          </a:p>
        </p:txBody>
      </p:sp>
      <p:sp>
        <p:nvSpPr>
          <p:cNvPr id="42" name=""/>
          <p:cNvSpPr txBox="1"/>
          <p:nvPr/>
        </p:nvSpPr>
        <p:spPr>
          <a:xfrm>
            <a:off x="971280" y="2349360"/>
            <a:ext cx="7497720" cy="41515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Dünyada ne kadar dil var?</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Yeryüzünde bu güne kadar kaç dil konuşulduğunu belirlemek için çeşitli araştırmalar yapılmıştır. Bu araştırmalarda üzerinde ittifak edilen kesin bir sayıya ulaşılamamıştır.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ncak bunların sonuçları incelendiğinde 2700 ila 5000 arasında değişen sayıda dilin varlığından söz edilmektedir.</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68360" y="620280"/>
            <a:ext cx="8229600" cy="550548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a-Romen Dilleri</a:t>
            </a:r>
            <a:r>
              <a:rPr b="0" lang="tr-TR" sz="2800" spc="-1" strike="noStrike">
                <a:solidFill>
                  <a:srgbClr val="000000"/>
                </a:solidFill>
                <a:latin typeface="Times New Roman"/>
                <a:ea typeface="Times New Roman"/>
              </a:rPr>
              <a:t>: Bu kolun ana dili Latincedir. Fransızca, İspanyolca, Portekizce, İtalyanca ve Rumence  bu dil grubundadır.</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0" lang="tr-TR" sz="2800" spc="-1" strike="noStrike">
                <a:solidFill>
                  <a:srgbClr val="ff0000"/>
                </a:solidFill>
                <a:latin typeface="Times New Roman"/>
                <a:ea typeface="Times New Roman"/>
              </a:rPr>
              <a:t>b-Germen Dilleri: </a:t>
            </a:r>
            <a:r>
              <a:rPr b="0" lang="tr-TR" sz="2800" spc="-1" strike="noStrike">
                <a:solidFill>
                  <a:srgbClr val="000000"/>
                </a:solidFill>
                <a:latin typeface="Times New Roman"/>
                <a:ea typeface="Times New Roman"/>
              </a:rPr>
              <a:t>Almanca,</a:t>
            </a:r>
            <a:r>
              <a:rPr b="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Felemenkçe, İngilizce ve İskandinav   bu gruba girer.</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c-Slav Dilleri: </a:t>
            </a:r>
            <a:r>
              <a:rPr b="0" lang="tr-TR" sz="2800" spc="-1" strike="noStrike">
                <a:solidFill>
                  <a:srgbClr val="000000"/>
                </a:solidFill>
                <a:latin typeface="Times New Roman"/>
                <a:ea typeface="Times New Roman"/>
              </a:rPr>
              <a:t>Rusça, Bulgarca, Sırpça, Çekçe, Slovakça, Hırvatça, Lehçe ve Boşnakça gibi   diller bu gruba girer.</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ç-Diğer Diller: </a:t>
            </a:r>
            <a:r>
              <a:rPr b="0" lang="tr-TR" sz="2800" spc="-1" strike="noStrike">
                <a:solidFill>
                  <a:srgbClr val="000000"/>
                </a:solidFill>
                <a:latin typeface="Times New Roman"/>
                <a:ea typeface="Times New Roman"/>
              </a:rPr>
              <a:t>Yunanca, Arnavutça, Keltçe, Litvanca gibi diller de bu grupta değerlendirilebil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AMİ DİLLERİ AİLESİ</a:t>
            </a:r>
            <a:endParaRPr b="0" lang="en-US" sz="2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Güney Batı Asya’dan Kuzey Doğu Afrika’ya kadar uzanan coğrafyada konuşulan dillerdir. Hami Sami dilleri de  deni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Arapça, İbranice, Akadca, Habeşce, Süryanice gibi diller bu grubun başlıca dilleri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BANTU DİLLERİ AİLESİ</a:t>
            </a:r>
            <a:endParaRPr b="0" lang="en-US" sz="3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Afrika’nın orta ve güney kesiminde konuşulan dillerdir. Swahili dili, Kongoca, Gurca, Pölce grubun başlıca dillerindendir.</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Bu diller içinde en yaygın olanı Kenya, Uganda, Tanzanya ve Kongo’da konuşulan Swahili dilidir.</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ÇİN TİBET DİLLERİ AİLESİ</a:t>
            </a:r>
            <a:endParaRPr b="0" lang="en-US" sz="28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Güneydoğu Asya’da konuşulan dillerdir. Çince, Tibetçe, Siyamca, Birmanca gibi diller bu grupta yer alı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5 milyar konuşuruyla Çince dünyanın en çok konuşulan dili durumundadı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AFKAS DİLLERİ AİLESİ</a:t>
            </a:r>
            <a:endParaRPr b="0" lang="en-US" sz="2800" spc="-1" strike="noStrike">
              <a:solidFill>
                <a:srgbClr val="000000"/>
              </a:solidFill>
              <a:latin typeface="Calibri"/>
            </a:endParaRPr>
          </a:p>
        </p:txBody>
      </p:sp>
      <p:sp>
        <p:nvSpPr>
          <p:cNvPr id="64" name=""/>
          <p:cNvSpPr txBox="1"/>
          <p:nvPr/>
        </p:nvSpPr>
        <p:spPr>
          <a:xfrm>
            <a:off x="457200" y="1268280"/>
            <a:ext cx="8229600" cy="4857840"/>
          </a:xfrm>
          <a:prstGeom prst="rect">
            <a:avLst/>
          </a:prstGeom>
          <a:noFill/>
          <a:ln w="0">
            <a:noFill/>
          </a:ln>
        </p:spPr>
        <p:txBody>
          <a:bodyPr anchor="t">
            <a:normAutofit/>
          </a:bodyPr>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Kafkasya, etnik açıdan dünyanın en karmaşık bölgesidir. </a:t>
            </a:r>
            <a:endParaRPr b="0" lang="en-US" sz="3000" spc="-1" strike="noStrike">
              <a:solidFill>
                <a:srgbClr val="000000"/>
              </a:solidFill>
              <a:latin typeface="Calibri"/>
            </a:endParaRPr>
          </a:p>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Küçük bir coğrafyada 50-60 etnik grup yaşamakta ve kendi dillerini konuşmaktadır. </a:t>
            </a:r>
            <a:endParaRPr b="0" lang="en-US" sz="3000" spc="-1" strike="noStrike">
              <a:solidFill>
                <a:srgbClr val="000000"/>
              </a:solidFill>
              <a:latin typeface="Calibri"/>
            </a:endParaRPr>
          </a:p>
          <a:p>
            <a:pPr marL="343080" indent="-343080" algn="just">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Karaçay-Balkarca, Azerice, Osetçe, Talişçe, Ermenice, Kalmukça, Gürcüce, Çerkezce, İnguşça, Abazca, Lezgice bu bölgede konuşulan dillerdendir.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ubTitle"/>
          </p:nvPr>
        </p:nvSpPr>
        <p:spPr>
          <a:xfrm>
            <a:off x="533520" y="475920"/>
            <a:ext cx="8286480" cy="5977080"/>
          </a:xfrm>
          <a:prstGeom prst="rect">
            <a:avLst/>
          </a:prstGeom>
          <a:noFill/>
          <a:ln w="0">
            <a:noFill/>
          </a:ln>
        </p:spPr>
        <p:txBody>
          <a:bodyPr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URAL – ALTAY DİLLERİ AİLESİ </a:t>
            </a:r>
            <a:r>
              <a:rPr b="0" lang="tr-TR" sz="2800" spc="-1" strike="noStrike">
                <a:solidFill>
                  <a:srgbClr val="7030a0"/>
                </a:solidFill>
                <a:latin typeface="Times New Roman"/>
                <a:ea typeface="Times New Roman"/>
              </a:rPr>
              <a:t>(*)</a:t>
            </a:r>
            <a:endParaRPr b="0" lang="en-US" sz="2800" spc="-1" strike="noStrike">
              <a:solidFill>
                <a:srgbClr val="000000"/>
              </a:solidFill>
              <a:latin typeface="Calibri"/>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	</a:t>
            </a:r>
            <a:r>
              <a:rPr b="0" lang="tr-TR" sz="3000" spc="-1" strike="noStrike">
                <a:solidFill>
                  <a:srgbClr val="000000"/>
                </a:solidFill>
                <a:latin typeface="Times New Roman"/>
                <a:ea typeface="Times New Roman"/>
              </a:rPr>
              <a:t>Ural ve Altay dillerinin köken birliği görüşü, 18.yüzyıl başlarından itibaren tartışma konusu olmuş, bilimsel çalışmaların ilerlemesiyle bu iki grubun birbiriyle akraba olmadığı ortaya çıkmıştır.</a:t>
            </a:r>
            <a:endParaRPr b="0" lang="en-US" sz="3000" spc="-1" strike="noStrike">
              <a:solidFill>
                <a:srgbClr val="000000"/>
              </a:solidFill>
              <a:latin typeface="Calibri"/>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 </a:t>
            </a:r>
            <a:r>
              <a:rPr b="0" i="1" lang="tr-TR" sz="3000" spc="-1" strike="noStrike">
                <a:solidFill>
                  <a:srgbClr val="000000"/>
                </a:solidFill>
                <a:latin typeface="Times New Roman"/>
                <a:ea typeface="Times New Roman"/>
              </a:rPr>
              <a:t>Fince, Macarca, Samoyetçe gibi dilleri içine alan Ural dilleriyle Türkçenin herhangi bir şekilde akrabalığı söz konusu değildir. </a:t>
            </a:r>
            <a:endParaRPr b="0" lang="en-US" sz="3000" spc="-1" strike="noStrike">
              <a:solidFill>
                <a:srgbClr val="000000"/>
              </a:solidFill>
              <a:latin typeface="Calibri"/>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7030a0"/>
                </a:solidFill>
                <a:latin typeface="Times New Roman"/>
                <a:ea typeface="Times New Roman"/>
              </a:rPr>
              <a:t>*Bu nedenle Ural-Altay dillerini tek bir dil ailesi olarak değil, Ural  ve Altay dilleri ailesi olarak ayrı ayrı ele almak daha doğru olacaktır.</a:t>
            </a:r>
            <a:endParaRPr b="0" lang="en-US" sz="30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URAL DİL AİLESİ</a:t>
            </a:r>
            <a:endParaRPr b="0" lang="en-US" sz="28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endi içinde Fin Ugor Kolu ve Samoyet Kolu olarak iki kola ayrılır:</a:t>
            </a:r>
            <a:endParaRPr b="0" lang="en-US" sz="2800" spc="-1" strike="noStrike">
              <a:solidFill>
                <a:srgbClr val="000000"/>
              </a:solidFill>
              <a:latin typeface="Calibri"/>
            </a:endParaRPr>
          </a:p>
          <a:p>
            <a:pPr marL="343080" indent="-343080">
              <a:lnSpc>
                <a:spcPct val="100000"/>
              </a:lnSpc>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46c0a"/>
                </a:solidFill>
                <a:latin typeface="Times New Roman"/>
                <a:ea typeface="Times New Roman"/>
              </a:rPr>
              <a:t>Fin Ugor: </a:t>
            </a:r>
            <a:r>
              <a:rPr b="0" lang="tr-TR" sz="2800" spc="-1" strike="noStrike">
                <a:solidFill>
                  <a:srgbClr val="000000"/>
                </a:solidFill>
                <a:latin typeface="Times New Roman"/>
                <a:ea typeface="Times New Roman"/>
              </a:rPr>
              <a:t>Fince, Macarca, Lapca, Ugorca</a:t>
            </a:r>
            <a:endParaRPr b="0" lang="en-US" sz="2800" spc="-1" strike="noStrike">
              <a:solidFill>
                <a:srgbClr val="000000"/>
              </a:solidFill>
              <a:latin typeface="Calibri"/>
            </a:endParaRPr>
          </a:p>
          <a:p>
            <a:pPr marL="343080" indent="-343080">
              <a:lnSpc>
                <a:spcPct val="100000"/>
              </a:lnSpc>
              <a:spcBef>
                <a:spcPts val="700"/>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46c0a"/>
                </a:solidFill>
                <a:latin typeface="Times New Roman"/>
                <a:ea typeface="Times New Roman"/>
              </a:rPr>
              <a:t>Samoyet: </a:t>
            </a:r>
            <a:r>
              <a:rPr b="0" lang="tr-TR" sz="2800" spc="-1" strike="noStrike">
                <a:solidFill>
                  <a:srgbClr val="000000"/>
                </a:solidFill>
                <a:latin typeface="Times New Roman"/>
                <a:ea typeface="Times New Roman"/>
              </a:rPr>
              <a:t>Samoyet dilleri bu grupta yer alı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654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LTAY DİL AİLESİ</a:t>
            </a:r>
            <a:endParaRPr b="0" lang="en-US" sz="2800" spc="-1" strike="noStrike">
              <a:solidFill>
                <a:srgbClr val="000000"/>
              </a:solidFill>
              <a:latin typeface="Calibri"/>
            </a:endParaRPr>
          </a:p>
        </p:txBody>
      </p:sp>
      <p:sp>
        <p:nvSpPr>
          <p:cNvPr id="69" name=""/>
          <p:cNvSpPr txBox="1"/>
          <p:nvPr/>
        </p:nvSpPr>
        <p:spPr>
          <a:xfrm>
            <a:off x="468000" y="836280"/>
            <a:ext cx="8258040" cy="576108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nceleri Ural ve Altay dillerinin kökeninin bir olduğu savunulmuş ancak daha sonra yapılan araştırmalar bu iki grubun akraba olmadığını ortaya çıkarmıştı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Orta Asya’daki Altay dağları ve çevresi bu dilleri konuşan toplulukların anavatanı kabul edil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grupta Türkçe, Moğolca, Mançu Tunguzca, Korece, Japonca bulunur.</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ea typeface="Times New Roman"/>
              </a:rPr>
              <a:t>Türkçe’nin Dünya Dilleri Arasındaki Yeri</a:t>
            </a:r>
            <a:endParaRPr b="0" lang="en-US" sz="2800" spc="-1" strike="noStrike">
              <a:solidFill>
                <a:srgbClr val="000000"/>
              </a:solidFill>
              <a:latin typeface="Calibri"/>
            </a:endParaRPr>
          </a:p>
          <a:p>
            <a:pPr marL="3430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Türkçe, Altay dilleri ailesine mensup, Moğolca ile yakın akrabalık gösteren sondan eklemeli bir dildir.</a:t>
            </a:r>
            <a:endParaRPr b="0" lang="en-US" sz="2800" spc="-1" strike="noStrike">
              <a:solidFill>
                <a:srgbClr val="000000"/>
              </a:solidFill>
              <a:latin typeface="Calibri"/>
            </a:endParaRPr>
          </a:p>
          <a:p>
            <a:pPr marL="343080" indent="-343080">
              <a:lnSpc>
                <a:spcPct val="100000"/>
              </a:lnSpc>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LTAY DİLLERİNİN ORTAK ÖZELLİKLERİ</a:t>
            </a:r>
            <a:endParaRPr b="0" lang="en-US" sz="2800" spc="-1" strike="noStrike">
              <a:solidFill>
                <a:srgbClr val="000000"/>
              </a:solidFill>
              <a:latin typeface="Calibri"/>
            </a:endParaRPr>
          </a:p>
        </p:txBody>
      </p:sp>
      <p:sp>
        <p:nvSpPr>
          <p:cNvPr id="71" name=""/>
          <p:cNvSpPr txBox="1"/>
          <p:nvPr/>
        </p:nvSpPr>
        <p:spPr>
          <a:xfrm>
            <a:off x="250920" y="1052280"/>
            <a:ext cx="8642160" cy="5616360"/>
          </a:xfrm>
          <a:prstGeom prst="rect">
            <a:avLst/>
          </a:prstGeom>
          <a:noFill/>
          <a:ln w="0">
            <a:noFill/>
          </a:ln>
        </p:spPr>
        <p:txBody>
          <a:bodyPr anchor="t">
            <a:norm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Altay dillerinde görülen ortak noktaları şöyle sıralayabiliriz:</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Eklemeli dillerdir. Kelime yapım ve çekiminde son ek kullanılırken köklerde değişiklik olmaz.</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Özne yüklemden önce gelir ve genellikle başta bulunur.</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Erillik-dişilik ayrımı yoktur. </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Ünlü uyumu aranır.</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Kelime başlarında l,r,n ünsüzleri bulunmaz.</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Sıfat tamlamalarında sıfatlar isimlerden önce gelir. beş kardeş..</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Artikel (harf-i tarif) bulunmaz. El-cevap, the book gibi…</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İsim çekiminde iyelik ekleri kullanılır. </a:t>
            </a:r>
            <a:endParaRPr b="0" lang="en-US" sz="2500" spc="-1" strike="noStrike">
              <a:solidFill>
                <a:srgbClr val="000000"/>
              </a:solidFill>
              <a:latin typeface="Calibri"/>
            </a:endParaRPr>
          </a:p>
          <a:p>
            <a:pPr>
              <a:lnSpc>
                <a:spcPct val="90000"/>
              </a:lnSpc>
              <a:spcBef>
                <a:spcPts val="624"/>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Sayı sıfatlarından sonra çokluk eki kullanılmaz. Örneğin, On elma…</a:t>
            </a:r>
            <a:endParaRPr b="0" lang="en-US" sz="25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VUSTRONEZYA DİLLERİ AİLESİ</a:t>
            </a:r>
            <a:endParaRPr b="0" lang="en-US" sz="28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ndonez Malay dilleri, Cava dili, Tagolog veya Pilipino, Malagasy dilleri bu dil ailesinin en önemli dillerid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971280" y="691920"/>
            <a:ext cx="7497720" cy="580860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illerin bir kısmı küçük kabile dilleri, bir kısmı da büyük milletlerin dilleridir. Bunlardan 118’i devlet dili olma niteliğine sahiptir. Türkçemiz de bunlardan biridir.</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gün, insanlar arasında anlaşma aracı olarak kullanıldığını gördüğümüz diller birbirlerinden ayrı ve bağımsız olmalarına rağmen aralarında bazı yakınlıklar vardır. Bu yakınlıkların bir kısmı herkesin fark edebileceği bir belirginliktedir. Bir kısmı ise ancak dilbilimcilerce görülebilmektedir. </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ler arasındaki yakınlıkları iki noktada toplayabiliriz:</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8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Times New Roman"/>
                <a:ea typeface="Times New Roman"/>
              </a:rPr>
              <a:t>A. Yapı bakımından,</a:t>
            </a:r>
            <a:endParaRPr b="0" lang="en-US" sz="2800" spc="-1" strike="noStrike">
              <a:solidFill>
                <a:srgbClr val="000000"/>
              </a:solidFill>
              <a:latin typeface="Calibri"/>
            </a:endParaRPr>
          </a:p>
          <a:p>
            <a:pPr marL="343080" indent="-343080" algn="just">
              <a:lnSpc>
                <a:spcPct val="80000"/>
              </a:lnSpc>
              <a:spcBef>
                <a:spcPts val="7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7030a0"/>
                </a:solidFill>
                <a:latin typeface="Times New Roman"/>
                <a:ea typeface="Times New Roman"/>
              </a:rPr>
              <a:t>B. Köken (menşe) bakımınd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ĞERLERİ</a:t>
            </a:r>
            <a:endParaRPr b="0" lang="en-US" sz="28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merikadaki yerlilerin dillerini, Eskimo Astek dillerini bu grupta sayabiliriz.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95B2B-8D27-41D6-9EC1-C155D71B77DB}"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971280" y="1125360"/>
            <a:ext cx="7497720" cy="53755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YAPI BAKIMINDAN DİLLER</a:t>
            </a:r>
            <a:endParaRPr b="0" lang="en-US" sz="2800" spc="-1" strike="noStrike">
              <a:solidFill>
                <a:srgbClr val="000000"/>
              </a:solidFill>
              <a:latin typeface="Calibri"/>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Yeryüzünde kullanılan diller, aralarındaki ses, biçim, yapı ve cümle kuruluşları bakımından benzerlikler dikkate alınarak sınıflandırmaya tabi tutulmuştur. </a:t>
            </a:r>
            <a:r>
              <a:rPr b="0" lang="tr-TR" sz="3000" spc="-1" strike="noStrike">
                <a:solidFill>
                  <a:srgbClr val="000000"/>
                </a:solidFill>
                <a:latin typeface="Times New Roman"/>
                <a:ea typeface="Times New Roman"/>
              </a:rPr>
              <a:t>Yapı bakımından diller şu şekilde sınıflandırılmıştır:</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1. Tek heceli diller (Yalınlayan diller)</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2. Eklemeli diller   (Bağlantılı diller)</a:t>
            </a:r>
            <a:endParaRPr b="0" lang="en-US" sz="3000" spc="-1" strike="noStrike">
              <a:solidFill>
                <a:srgbClr val="000000"/>
              </a:solidFill>
              <a:latin typeface="Calibri"/>
            </a:endParaRPr>
          </a:p>
          <a:p>
            <a:pPr marL="343080" indent="-343080">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3. Çekimli diller     (Bükümlü dille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680"/>
            <a:ext cx="7467480" cy="93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EK HECELİ DİLLER</a:t>
            </a:r>
            <a:endParaRPr b="0" lang="en-US" sz="2800" spc="-1" strike="noStrike">
              <a:solidFill>
                <a:srgbClr val="000000"/>
              </a:solidFill>
              <a:latin typeface="Calibri"/>
            </a:endParaRPr>
          </a:p>
        </p:txBody>
      </p:sp>
      <p:sp>
        <p:nvSpPr>
          <p:cNvPr id="46" name=""/>
          <p:cNvSpPr txBox="1"/>
          <p:nvPr/>
        </p:nvSpPr>
        <p:spPr>
          <a:xfrm>
            <a:off x="456840" y="1356840"/>
            <a:ext cx="7467480" cy="5116680"/>
          </a:xfrm>
          <a:prstGeom prst="rect">
            <a:avLst/>
          </a:prstGeom>
          <a:noFill/>
          <a:ln w="0">
            <a:noFill/>
          </a:ln>
        </p:spPr>
        <p:txBody>
          <a:bodyPr anchor="t">
            <a:normAutofit fontScale="99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Bu dillerde her kelime tek hecedir. Cümleyi oluşturan kelimeler ek almazlar ve şekil değiştirmezler. Çince ve Tibetçe bu gruptaki dillerdendir. Cümlenin anlamı genellikle kelime sırasından ve vurgu  tonlamasından anlaşılır. Örnek:</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558ed5"/>
                </a:solidFill>
                <a:latin typeface="Times New Roman"/>
              </a:rPr>
              <a:t>Wo şiye : </a:t>
            </a:r>
            <a:r>
              <a:rPr b="0" lang="tr-TR" sz="2800" spc="-1" strike="noStrike">
                <a:solidFill>
                  <a:srgbClr val="000000"/>
                </a:solidFill>
                <a:latin typeface="Times New Roman"/>
              </a:rPr>
              <a:t>yazıyorum</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558ed5"/>
                </a:solidFill>
                <a:latin typeface="Times New Roman"/>
              </a:rPr>
              <a:t>Wo bu şiye : </a:t>
            </a:r>
            <a:r>
              <a:rPr b="0" lang="tr-TR" sz="2800" spc="-1" strike="noStrike">
                <a:solidFill>
                  <a:srgbClr val="000000"/>
                </a:solidFill>
                <a:latin typeface="Times New Roman"/>
              </a:rPr>
              <a:t>yazmıyorum, yazmam</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r>
              <a:rPr b="0" lang="tr-TR" sz="2800" spc="-1" strike="noStrike">
                <a:solidFill>
                  <a:srgbClr val="558ed5"/>
                </a:solidFill>
                <a:latin typeface="Times New Roman"/>
              </a:rPr>
              <a:t>Wo şiye lı : </a:t>
            </a:r>
            <a:r>
              <a:rPr b="0" lang="tr-TR" sz="2800" spc="-1" strike="noStrike">
                <a:solidFill>
                  <a:srgbClr val="000000"/>
                </a:solidFill>
                <a:latin typeface="Times New Roman"/>
              </a:rPr>
              <a:t>yazdım</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Görülüyor ki, Türkçedeki eklerin yerini , bu dillerde kelimeler almıştı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11040" y="120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KLEMELİ DİLLER</a:t>
            </a:r>
            <a:endParaRPr b="0" lang="en-US" sz="28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tür dillerde tek veya çok heceli kelime kökleri ile ekler vardır. Yeni kelimeler ya da kelimelerin çekimli halleri yapılırken köklere ekler getirilir. Bu ekleme sırasında kökler değişmez.</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i="1" lang="tr-TR" sz="2800" spc="-1" strike="noStrike">
                <a:solidFill>
                  <a:srgbClr val="000000"/>
                </a:solidFill>
                <a:latin typeface="Times New Roman"/>
                <a:ea typeface="Times New Roman"/>
              </a:rPr>
              <a:t>Türkçe, Macarca, Moğolca, Japonca, Korece </a:t>
            </a:r>
            <a:r>
              <a:rPr b="0" lang="tr-TR" sz="2800" spc="-1" strike="noStrike">
                <a:solidFill>
                  <a:srgbClr val="000000"/>
                </a:solidFill>
                <a:latin typeface="Times New Roman"/>
                <a:ea typeface="Times New Roman"/>
              </a:rPr>
              <a:t>gibi diller eklemeli dillerdendir.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Örnek: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ürk-çe, oku-l-um-u   sev-(i)yor-um, göz-lük-çü-l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680"/>
            <a:ext cx="7467480" cy="58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ÇEKİMLİ</a:t>
            </a:r>
            <a:r>
              <a:rPr b="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LLER</a:t>
            </a:r>
            <a:endParaRPr b="0" lang="en-US" sz="2800" spc="-1" strike="noStrike">
              <a:solidFill>
                <a:srgbClr val="000000"/>
              </a:solidFill>
              <a:latin typeface="Calibri"/>
            </a:endParaRPr>
          </a:p>
        </p:txBody>
      </p:sp>
      <p:sp>
        <p:nvSpPr>
          <p:cNvPr id="50" name=""/>
          <p:cNvSpPr txBox="1"/>
          <p:nvPr/>
        </p:nvSpPr>
        <p:spPr>
          <a:xfrm>
            <a:off x="456840" y="1214280"/>
            <a:ext cx="7467480" cy="5259600"/>
          </a:xfrm>
          <a:prstGeom prst="rect">
            <a:avLst/>
          </a:prstGeom>
          <a:noFill/>
          <a:ln w="0">
            <a:noFill/>
          </a:ln>
        </p:spPr>
        <p:txBody>
          <a:bodyPr anchor="t">
            <a:normAutofit/>
          </a:bodyPr>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Çekimli dillerde tek veya çok heceli kökler ve bir takım ekler vardır. Yeni kelime yapımında ve çekim sırasında çok defa köklerde değişiklikler olur. Hatta bazı dillerde bu değişiklik kökü tanınmaz hale getirebilir. Hint Avrupa ve Sami dilleri bu gruba girer. </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Örnek (Arapça):</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qa:le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dedi (geçmiş zaman)</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yequ:lü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der (geniş zaman)</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qul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  de (emir)</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Ders, medrese, müderris, tedrisat…</a:t>
            </a:r>
            <a:endParaRPr b="0" lang="en-US" sz="25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Örnek (İngilizce): Drink, drank, drunk (içmek)</a:t>
            </a:r>
            <a:r>
              <a:rPr b="0" i="1" lang="tr-TR" sz="2500" spc="-1" strike="noStrike">
                <a:solidFill>
                  <a:srgbClr val="000000"/>
                </a:solidFill>
                <a:latin typeface="Calibri"/>
              </a:rPr>
              <a:t>	</a:t>
            </a:r>
            <a:r>
              <a:rPr b="0" lang="tr-TR" sz="2800" spc="-1" strike="noStrike">
                <a:solidFill>
                  <a:srgbClr val="000000"/>
                </a:solidFill>
                <a:latin typeface="Times New Roman"/>
                <a:ea typeface="Times New Roman"/>
              </a:rPr>
              <a:t>go - went- gone (gitmek)… gibi.</a:t>
            </a:r>
            <a:endParaRPr b="0" lang="en-US" sz="2800" spc="-1" strike="noStrike">
              <a:solidFill>
                <a:srgbClr val="000000"/>
              </a:solidFill>
              <a:latin typeface="Calibri"/>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do – did -don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AYNAK (MENŞE) BAKIMINDAN DİLLER</a:t>
            </a:r>
            <a:endParaRPr b="0" lang="en-US" sz="2800" spc="-1" strike="noStrike">
              <a:solidFill>
                <a:srgbClr val="000000"/>
              </a:solidFill>
              <a:latin typeface="Calibri"/>
            </a:endParaRPr>
          </a:p>
        </p:txBody>
      </p:sp>
      <p:sp>
        <p:nvSpPr>
          <p:cNvPr id="52" name=""/>
          <p:cNvSpPr txBox="1"/>
          <p:nvPr/>
        </p:nvSpPr>
        <p:spPr>
          <a:xfrm>
            <a:off x="457200" y="1600200"/>
            <a:ext cx="7972560" cy="48736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öken bakımından birbirine yakın, aynı kaynaktan gelen diller dil ailelerini oluşturur. Aynı dil ailesinden  gelen diller arasındaki akrabalık  derecesi geldikleri kola göre farklı olabilir. Örneğin İngilizce ile Farsça arasındaki akrabalık bağı uzakken;  İngilizce ile Almanca arasındaki akrabalık bağı daha yakındır. </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6840" y="713880"/>
            <a:ext cx="7467480" cy="57596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Yeryüzündeki dil ailelerini şu şekilde sınıflandırabiliriz:</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1. Hint Avrupa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2. Sami Dilleri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3. Bantu Dilleri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4. Çin Tibet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5. Kafkas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6. Ural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7. Altay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8. Avustronezya Dil Ailesi</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9. Bunların dışında kalanlar</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HİNT AVRUPA DİLLERİ AİLESİ</a:t>
            </a:r>
            <a:endParaRPr b="0" lang="en-US" sz="2800" spc="-1" strike="noStrike">
              <a:solidFill>
                <a:srgbClr val="000000"/>
              </a:solidFill>
              <a:latin typeface="Calibri"/>
            </a:endParaRPr>
          </a:p>
        </p:txBody>
      </p:sp>
      <p:sp>
        <p:nvSpPr>
          <p:cNvPr id="55" name=""/>
          <p:cNvSpPr txBox="1"/>
          <p:nvPr/>
        </p:nvSpPr>
        <p:spPr>
          <a:xfrm>
            <a:off x="456840" y="1125000"/>
            <a:ext cx="8186760" cy="54723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Avrupa’nın büyük bölümünde, Asya, Amerika ve bazı Afrika ülkelerinde konuşulmaktadır. Macarca ve Fince dışındaki Avrupa dilleri, Farsça ve Hindistan’daki birçok dil bu gruba girer. Dünyanın en büyük dil ailesidir.</a:t>
            </a:r>
            <a:r>
              <a:rPr b="0" lang="tr-TR" sz="2800" spc="-1" strike="noStrike">
                <a:solidFill>
                  <a:srgbClr val="000000"/>
                </a:solidFill>
                <a:latin typeface="Calibri"/>
              </a:rPr>
              <a:t> </a:t>
            </a:r>
            <a:r>
              <a:rPr b="0" lang="tr-TR" sz="2800" spc="-1" strike="noStrike">
                <a:solidFill>
                  <a:srgbClr val="000000"/>
                </a:solidFill>
                <a:latin typeface="Times New Roman"/>
                <a:ea typeface="Times New Roman"/>
              </a:rPr>
              <a:t>İki kolu vardı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1. Asya Kolu</a:t>
            </a:r>
            <a:r>
              <a:rPr b="0" lang="tr-TR" sz="2800" spc="-1" strike="noStrike">
                <a:solidFill>
                  <a:srgbClr val="000000"/>
                </a:solidFill>
                <a:latin typeface="Times New Roman"/>
                <a:ea typeface="Times New Roman"/>
              </a:rPr>
              <a:t>: Hintçe, Farsça, Urduca, Ermenice bu kola gire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2. Avrupa Kolu</a:t>
            </a:r>
            <a:r>
              <a:rPr b="0" lang="tr-TR" sz="2800" spc="-1" strike="noStrike">
                <a:solidFill>
                  <a:srgbClr val="000000"/>
                </a:solidFill>
                <a:latin typeface="Times New Roman"/>
                <a:ea typeface="Times New Roman"/>
              </a:rPr>
              <a:t>: Fince ve Macarca dışındaki Avrupa’da konuşulan diğer dilleri bu gruba sokabiliriz.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vrupa kolu, </a:t>
            </a:r>
            <a:r>
              <a:rPr b="0" lang="tr-TR" sz="2800" spc="-1" strike="noStrike">
                <a:solidFill>
                  <a:srgbClr val="00b0f0"/>
                </a:solidFill>
                <a:latin typeface="Times New Roman"/>
                <a:ea typeface="Times New Roman"/>
              </a:rPr>
              <a:t>Romen, Germen, Slav ve diğer </a:t>
            </a:r>
            <a:r>
              <a:rPr b="0" lang="tr-TR" sz="2800" spc="-1" strike="noStrike">
                <a:solidFill>
                  <a:srgbClr val="000000"/>
                </a:solidFill>
                <a:latin typeface="Times New Roman"/>
                <a:ea typeface="Times New Roman"/>
              </a:rPr>
              <a:t>diller olmak üzere dört bölümde ele alınabil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5:24:44Z</dcterms:created>
  <dc:creator>serkanhamit</dc:creator>
  <dc:description/>
  <dc:language>en-US</dc:language>
  <cp:lastModifiedBy>BURAK</cp:lastModifiedBy>
  <dcterms:modified xsi:type="dcterms:W3CDTF">2014-09-29T15:54:33Z</dcterms:modified>
  <cp:revision>127</cp:revision>
  <dc:subject/>
  <dc:title>TEMEL KAVRAMLAR</dc:title>
</cp:coreProperties>
</file>