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7043-88B7-4146-96C4-7025B808C86A}"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CC7D2-F354-478A-BEEC-49FDD94C5CF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A582-D9EF-4030-95BD-7A6341A0C3C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7FD9-CF14-42C2-BD5C-F8C401BA242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0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2DA43-D295-4437-B94A-E89599952E6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B546-1610-431F-A46D-A95A3FDAC34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B98ED-9280-4B59-A525-0DD3B9F1043A}"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1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CF82B-E6D2-4102-AAA4-E460BB810C0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F5A2-8083-4A62-AC96-286630D09C13}"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90519-EBA8-4534-B55E-3AB88B25DEFC}"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2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87078-1736-4B23-8533-BB69FDDA639D}"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53E8-526F-4CA3-A2F9-3B955BFD7AA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0"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95C2C-9BE9-49A5-A0DC-D20B385FA9E8}"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4655-8353-4E71-BBF7-CAD465BE57B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B189-5706-4E5E-A175-B34E61A2966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3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37A1-B953-4B39-B0F3-774951305A4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14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D5763-DFBC-4D6B-95FD-36CE0A9166B2}"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7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9796A-E083-4753-834C-9A304E81146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A856-3D79-48BD-B5B1-853D38990C97}"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F9B9-EE8F-466C-ADEE-06A7FAC04AEE}"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8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A4809-5588-4B76-BCFE-F46922A9C1B4}"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1"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B595-D564-4F47-8E53-77052CDF1E40}"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4"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5831-E50F-479F-8B2F-DB1CCB5A9555}"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9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7DC51-7FB1-48BF-BAA8-A6782035B2DF}"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2C991-1A2D-4927-8B45-FB058AF8E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D61A9-6C02-46B4-9A48-52498EC77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2F65F-253D-4978-A7FD-20D7C0F7F7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CECD0-23D5-4E76-A2C7-6FB8C8DB6C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5EE25-F84C-4104-A5F8-CB424ACA2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389D6-375B-4C07-8828-03AD37C3F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15E9B-5ACE-40C8-95EF-431ACF39B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9081E-5C6A-487A-8E28-EEF89182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C80F-69F7-413A-8673-D8AB8E25F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5E252-1C92-46C7-9C61-BE0AF3D7F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41771-3128-4882-A7A7-98241FC7A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2187-1C32-45D5-92AF-C5FD9BEC3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ABA3-8D50-433D-8231-6AFC0FF41369}" type="slidenum">
              <a:rPr b="0" lang="tr-TR"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99640" y="1052280"/>
            <a:ext cx="7704360" cy="5040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1.HAFTA</a:t>
            </a:r>
            <a:br>
              <a:rPr sz="3600"/>
            </a:br>
            <a:br>
              <a:rPr sz="3600"/>
            </a:br>
            <a:r>
              <a:rPr b="1" lang="tr-TR" sz="3600" spc="-1" strike="noStrike">
                <a:solidFill>
                  <a:srgbClr val="000000"/>
                </a:solidFill>
                <a:latin typeface="Times New Roman"/>
                <a:ea typeface="Times New Roman"/>
              </a:rPr>
              <a:t>KELİME GRUPLARI</a:t>
            </a:r>
            <a:br>
              <a:rPr sz="3600"/>
            </a:br>
            <a:r>
              <a:rPr b="1" lang="tr-TR" sz="3600" spc="-1" strike="noStrike">
                <a:solidFill>
                  <a:srgbClr val="000000"/>
                </a:solidFill>
                <a:latin typeface="Times New Roman"/>
                <a:ea typeface="Times New Roman"/>
              </a:rPr>
              <a:t>VE </a:t>
            </a:r>
            <a:br>
              <a:rPr sz="3600"/>
            </a:br>
            <a:r>
              <a:rPr b="1" lang="tr-TR" sz="3600" spc="-1" strike="noStrike">
                <a:solidFill>
                  <a:srgbClr val="000000"/>
                </a:solidFill>
                <a:latin typeface="Times New Roman"/>
                <a:ea typeface="Times New Roman"/>
              </a:rPr>
              <a:t>ÖZELLİKLERİ</a:t>
            </a:r>
            <a:br>
              <a:rPr sz="3600"/>
            </a:br>
            <a:endParaRPr b="0" lang="en-US" sz="36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5. İSİM FİİL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isim fiil (mastar) ile ondan önce gelen ve ona bağlı olan kelimelerin veya kelime gruplarının oluşturduğu gruba</a:t>
            </a:r>
            <a:r>
              <a:rPr b="1" lang="tr-TR" sz="2200" spc="-1" strike="noStrike">
                <a:solidFill>
                  <a:srgbClr val="000000"/>
                </a:solidFill>
                <a:latin typeface="Times New Roman"/>
                <a:ea typeface="Times New Roman"/>
              </a:rPr>
              <a:t> isim fiil grubu </a:t>
            </a:r>
            <a:r>
              <a:rPr b="0" lang="tr-TR" sz="2200" spc="-1" strike="noStrike">
                <a:solidFill>
                  <a:srgbClr val="000000"/>
                </a:solidFill>
                <a:latin typeface="Times New Roman"/>
                <a:ea typeface="Times New Roman"/>
              </a:rPr>
              <a:t>denir. Grubun ana unsuru isim fiildir ve sonda bulunur. Bir temel cümlenin yan cümleciği görevinde bulunurlar ve temel cümlenin herhangi bir unsuru olabilirle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Bana gönderilen dost mektuplarını saklamak</a:t>
            </a:r>
            <a:r>
              <a:rPr b="0" i="1" lang="tr-TR" sz="2200" spc="-1" strike="noStrike">
                <a:solidFill>
                  <a:srgbClr val="000000"/>
                </a:solidFill>
                <a:latin typeface="Times New Roman"/>
                <a:ea typeface="Times New Roman"/>
              </a:rPr>
              <a:t>   adetim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u="sng">
                <a:solidFill>
                  <a:srgbClr val="000000"/>
                </a:solidFill>
                <a:uFillTx/>
                <a:latin typeface="Times New Roman"/>
                <a:ea typeface="Times New Roman"/>
              </a:rPr>
              <a:t>Uzun bir ayrılıktan sonra  sılaya  dönüş</a:t>
            </a:r>
            <a:r>
              <a:rPr b="0" i="1" lang="tr-TR" sz="2200" spc="-1" strike="noStrike">
                <a:solidFill>
                  <a:srgbClr val="000000"/>
                </a:solidFill>
                <a:latin typeface="Times New Roman"/>
                <a:ea typeface="Times New Roman"/>
              </a:rPr>
              <a:t>, çok güzeldir.</a:t>
            </a:r>
            <a:br>
              <a:rPr sz="2200"/>
            </a:br>
            <a:r>
              <a:rPr b="0" lang="tr-TR" sz="2200" spc="-1" strike="noStrike">
                <a:solidFill>
                  <a:srgbClr val="000000"/>
                </a:solidFill>
                <a:latin typeface="Times New Roman"/>
                <a:ea typeface="Times New Roman"/>
              </a:rPr>
              <a:t> </a:t>
            </a:r>
            <a:r>
              <a:rPr b="0" i="1" lang="tr-TR" sz="2200" spc="-1" strike="noStrike">
                <a:solidFill>
                  <a:srgbClr val="ff0000"/>
                </a:solidFill>
                <a:latin typeface="Times New Roman"/>
                <a:ea typeface="Times New Roman"/>
              </a:rPr>
              <a:t>isim fiil grubu</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yüklem</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Her sabah ilk işi, </a:t>
            </a:r>
            <a:r>
              <a:rPr b="0" i="1" lang="tr-TR" sz="2200" spc="-1" strike="noStrike" u="sng">
                <a:solidFill>
                  <a:srgbClr val="000000"/>
                </a:solidFill>
                <a:uFillTx/>
                <a:latin typeface="Times New Roman"/>
                <a:ea typeface="Times New Roman"/>
              </a:rPr>
              <a:t>o günkü yemek listesine bir göz atmaktır</a:t>
            </a:r>
            <a:r>
              <a:rPr b="0" i="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isim fiil grubu</a:t>
            </a:r>
            <a:endParaRPr b="0" lang="en-US" sz="22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6. TEKRAR (İKİLEME) GRUBU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nesneyi veya hareketi karşılamak ya da kuvvetlendirme, abartma, süreklilik, denklik gibi ifade değişiklikleri meydana getirmek için eş görevli iki kelimenin meydana getirdiği kelime grubudur.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ekrar grupları sıfat veya zarf görevinde kullanılabilir ve gruplar arasına virgül konmaz. </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ağır ağır, didik didik, mışıl mışıl, eğri büğrü, çoluk çocuk, er geç, senli benli, ezildi büzüldü, deli dolu, aşağı yukarı, irili ufaklı, enine boyuna, yerli yersiz, düşe kalka, deli dolu, yalan yanlış…</a:t>
            </a:r>
            <a:endParaRPr b="0" lang="en-US" sz="22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900000" y="691920"/>
            <a:ext cx="7056720" cy="5761080"/>
          </a:xfrm>
          <a:prstGeom prst="rect">
            <a:avLst/>
          </a:prstGeom>
          <a:noFill/>
          <a:ln w="0">
            <a:noFill/>
          </a:ln>
        </p:spPr>
        <p:txBody>
          <a:bodyPr anchor="t">
            <a:normAutofit/>
          </a:bodyPr>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Yapılış şekillerine göre çeşitleri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a. Aynı kelimenin tekrarı şeklinde yapılanlar</a:t>
            </a:r>
            <a:r>
              <a:rPr b="0" lang="tr-TR" sz="2000" spc="-1" strike="noStrike">
                <a:solidFill>
                  <a:srgbClr val="000000"/>
                </a:solidFill>
                <a:latin typeface="Times New Roman"/>
                <a:ea typeface="Times New Roman"/>
              </a:rPr>
              <a:t> </a:t>
            </a:r>
            <a:br>
              <a:rPr sz="2000"/>
            </a:br>
            <a:r>
              <a:rPr b="0" i="1" lang="tr-TR" sz="2000" spc="-1" strike="noStrike">
                <a:solidFill>
                  <a:srgbClr val="000000"/>
                </a:solidFill>
                <a:latin typeface="Times New Roman"/>
                <a:ea typeface="Times New Roman"/>
              </a:rPr>
              <a:t>Mışıl mışıl, yavaş yavaş, koşa koşa, ılık ılık, koca koca, ince ince, azar azar, güle güle,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b.Yakın veya eş anlamlı kelimelerden oluşanlar</a:t>
            </a:r>
            <a:br>
              <a:rPr sz="2000"/>
            </a:br>
            <a:r>
              <a:rPr b="0" i="1" lang="tr-TR" sz="2000" spc="-1" strike="noStrike">
                <a:solidFill>
                  <a:srgbClr val="000000"/>
                </a:solidFill>
                <a:latin typeface="Times New Roman"/>
                <a:ea typeface="Times New Roman"/>
              </a:rPr>
              <a:t>Doğru dürüst, eğri büğrü, kılık kıyafet, dayalı döşeli, güle oynaya, deli dolu, ezik büzük, ipsiz sapsız, yalan yanlış, ak pak...</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c. Zıt anlamlı kelimelerden oluşanl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ata çıka, irili ufaklı, ölüm kalım, dosta düşmana, aşağı yukarı, genç ihtiyar, dereden tepeden, enine boyuna, olur olmaz, sağlı sollu...</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7.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Yalın veya çekimli haldeki bir isim unsuru ile «</a:t>
            </a:r>
            <a:r>
              <a:rPr b="0" i="1" lang="tr-TR" sz="2000" spc="-1" strike="noStrike">
                <a:solidFill>
                  <a:srgbClr val="000000"/>
                </a:solidFill>
                <a:latin typeface="Times New Roman"/>
                <a:ea typeface="Times New Roman"/>
              </a:rPr>
              <a:t>kadar, gibi, için, göre, başka, ile, beraber, dolayı, önce, sonra, beri, doğru» </a:t>
            </a:r>
            <a:r>
              <a:rPr b="0" lang="tr-TR" sz="2000" spc="-1" strike="noStrike">
                <a:solidFill>
                  <a:srgbClr val="000000"/>
                </a:solidFill>
                <a:latin typeface="Times New Roman"/>
                <a:ea typeface="Times New Roman"/>
              </a:rPr>
              <a:t>gibi bir çekim edatının birleşerek oluşturduğu kelime grubudur. İsim unsuru başta, edat sonda bulunur.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sim unsuru + çekim edatı = edat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a:t>
            </a:r>
            <a:r>
              <a:rPr b="0" i="1" lang="de-DE" sz="2000" spc="-1" strike="noStrike">
                <a:solidFill>
                  <a:srgbClr val="000000"/>
                </a:solidFill>
                <a:latin typeface="Times New Roman"/>
                <a:ea typeface="Times New Roman"/>
              </a:rPr>
              <a:t>aşa</a:t>
            </a:r>
            <a:r>
              <a:rPr b="0" i="1" lang="tr-TR" sz="2000" spc="-1" strike="noStrike">
                <a:solidFill>
                  <a:srgbClr val="000000"/>
                </a:solidFill>
                <a:latin typeface="Times New Roman"/>
                <a:ea typeface="Times New Roman"/>
              </a:rPr>
              <a:t>dığım / gibi</a:t>
            </a:r>
            <a:br>
              <a:rPr sz="2000"/>
            </a:br>
            <a:r>
              <a:rPr b="0" i="1" lang="tr-TR" sz="2000" spc="-1" strike="noStrike">
                <a:solidFill>
                  <a:srgbClr val="000000"/>
                </a:solidFill>
                <a:latin typeface="Times New Roman"/>
                <a:ea typeface="Times New Roman"/>
              </a:rPr>
              <a:t>çocuklar / için</a:t>
            </a:r>
            <a:br>
              <a:rPr sz="2000"/>
            </a:br>
            <a:r>
              <a:rPr b="0" i="1" lang="tr-TR" sz="2000" spc="-1" strike="noStrike">
                <a:solidFill>
                  <a:srgbClr val="000000"/>
                </a:solidFill>
                <a:latin typeface="Times New Roman"/>
                <a:ea typeface="Times New Roman"/>
              </a:rPr>
              <a:t>d</a:t>
            </a:r>
            <a:r>
              <a:rPr b="0" i="1" lang="de-DE" sz="2000" spc="-1" strike="noStrike">
                <a:solidFill>
                  <a:srgbClr val="000000"/>
                </a:solidFill>
                <a:latin typeface="Times New Roman"/>
                <a:ea typeface="Times New Roman"/>
              </a:rPr>
              <a:t>enize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ğru</a:t>
            </a:r>
            <a:br>
              <a:rPr sz="2000"/>
            </a:br>
            <a:r>
              <a:rPr b="0" i="1" lang="tr-TR" sz="2000" spc="-1" strike="noStrike">
                <a:solidFill>
                  <a:srgbClr val="000000"/>
                </a:solidFill>
                <a:latin typeface="Times New Roman"/>
                <a:ea typeface="Times New Roman"/>
              </a:rPr>
              <a:t>b</a:t>
            </a:r>
            <a:r>
              <a:rPr b="0" i="1" lang="de-DE" sz="2000" spc="-1" strike="noStrike">
                <a:solidFill>
                  <a:srgbClr val="000000"/>
                </a:solidFill>
                <a:latin typeface="Times New Roman"/>
                <a:ea typeface="Times New Roman"/>
              </a:rPr>
              <a:t>undan</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de-DE" sz="2000" spc="-1" strike="noStrike">
                <a:solidFill>
                  <a:srgbClr val="000000"/>
                </a:solidFill>
                <a:latin typeface="Times New Roman"/>
                <a:ea typeface="Times New Roman"/>
              </a:rPr>
              <a:t>dolay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lk uçuştan sonra yuvaya dönmeyi başaran yavru serçeler  / gib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hür maviliğin bittiği son hadde / kada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şimşek / gibi,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ün geceden  / beri</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nci Dünya Savaşı’ndan  / son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8. BAĞLAMA GRUBU</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ve, ile, veya, gâh… gâh…, ya… ya…, hem… hem…, ne… ne…» gibi bağlama edatları (bağlaç) ile birbirine bağlanmış iki veya daha fazla isim unsurundan meydana gelmiş kelime gruplarıdır. </a:t>
            </a:r>
            <a:endParaRPr b="0" lang="en-US" sz="2400" spc="-1" strike="noStrike">
              <a:solidFill>
                <a:srgbClr val="000000"/>
              </a:solidFill>
              <a:latin typeface="Calibri"/>
            </a:endParaRPr>
          </a:p>
          <a:p>
            <a:pPr marL="228600" indent="-228600">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ırmızı ve Siyah; babalarla oğullar; olmak veya olmamak; Kerem ile Aslı, ama sen ama ben; ya iş ya okul, ne gördüm ne duydu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899640" y="691920"/>
            <a:ext cx="7272360" cy="5761080"/>
          </a:xfrm>
          <a:prstGeom prst="rect">
            <a:avLst/>
          </a:prstGeom>
          <a:noFill/>
          <a:ln w="0">
            <a:noFill/>
          </a:ln>
        </p:spPr>
        <p:txBody>
          <a:bodyPr anchor="t">
            <a:normAutofit/>
          </a:bodyPr>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Times New Roman"/>
                <a:ea typeface="Times New Roman"/>
              </a:rPr>
              <a:t>     </a:t>
            </a:r>
            <a:r>
              <a:rPr b="0" lang="tr-TR" sz="1800" spc="-1" strike="noStrike">
                <a:solidFill>
                  <a:srgbClr val="ff0000"/>
                </a:solidFill>
                <a:latin typeface="Times New Roman"/>
                <a:ea typeface="Times New Roman"/>
              </a:rPr>
              <a:t>9.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Bir şahıs ismiyle (özel isimle), bir unvan veya akrabalık isminden meydana gelen kelime gruplarıdır. Şahıs ismi + unvan veya akrabalık ismi =  unvan grubu</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Bilge Kağan, Bayındır Han, Osman Gazi, Mehlika Sultan, Hasan Paşa, Ali Bey, Ahmet Amca, Şinasi Efendi, Kemal Ağa, Nigâr Hanım...</a:t>
            </a:r>
            <a:endParaRPr b="0" lang="en-US" sz="1800" spc="-1" strike="noStrike">
              <a:solidFill>
                <a:srgbClr val="000000"/>
              </a:solidFill>
              <a:latin typeface="Calibri"/>
            </a:endParaRPr>
          </a:p>
          <a:p>
            <a:pPr>
              <a:lnSpc>
                <a:spcPct val="1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Bu grupta, şahıs ismi başta, unvan ve akrabalık ismi sonda bulunur. İki unsur da eksiz birleşir.  Unvan belirten isim sonda değil de başta yer  alırsa bu tür kelime grupları unvan grubu değil, birleşik isim olurlar. </a:t>
            </a:r>
            <a:endParaRPr b="0" lang="en-US" sz="1800" spc="-1" strike="noStrike">
              <a:solidFill>
                <a:srgbClr val="000000"/>
              </a:solidFill>
              <a:latin typeface="Calibri"/>
            </a:endParaRPr>
          </a:p>
          <a:p>
            <a:pPr>
              <a:lnSpc>
                <a:spcPct val="1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ea typeface="Times New Roman"/>
              </a:rPr>
              <a:t>        </a:t>
            </a:r>
            <a:r>
              <a:rPr b="0" lang="tr-TR" sz="1800" spc="-1" strike="noStrike">
                <a:solidFill>
                  <a:srgbClr val="000000"/>
                </a:solidFill>
                <a:latin typeface="Times New Roman"/>
                <a:ea typeface="Times New Roman"/>
              </a:rPr>
              <a:t>Mesela, «Doktor Murat, Hemşire Selma, Albay Turgut, Yüzbaşı Osman, Sultan Orhan…» gibi örnekler unvan  grubu değil, birleşik isim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0. BİRLEŞİK İSİM GRUBU</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 nesnenin özel adı olmak üzere bir araya gelen kelimeler topluluğudur. Birleşik isim grubuna özel isim grubu da denir. Birleşik isimle birleşik kelime birbirine karıştırılmamalıdır. «</a:t>
            </a:r>
            <a:r>
              <a:rPr b="0" i="1" lang="tr-TR" sz="2200" spc="-1" strike="noStrike">
                <a:solidFill>
                  <a:srgbClr val="000000"/>
                </a:solidFill>
                <a:latin typeface="Times New Roman"/>
                <a:ea typeface="Times New Roman"/>
              </a:rPr>
              <a:t>binbaşı, cumartesi, Ulukışla» </a:t>
            </a:r>
            <a:r>
              <a:rPr b="0" lang="tr-TR" sz="2200" spc="-1" strike="noStrike">
                <a:solidFill>
                  <a:srgbClr val="000000"/>
                </a:solidFill>
                <a:latin typeface="Times New Roman"/>
                <a:ea typeface="Times New Roman"/>
              </a:rPr>
              <a:t>gibi birleşik kelimeler, herhangi bir kelime grubunun unsurlarının birleşmesiyle ortaya çıkmıştır. Oysa birleşik isimler yan yana sıralanan özel isimlerle kurulu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ahya Kemâl Beyatlı, Ali Şir Nevaî, Muharrem Ergin, Deli Dumrul, Ulubatlı Hasan, İkinci Selim, Ömer Seyfettin, Faruk Nafiz, Tevfik Fikret, Yıldırım Bayezit, Kaşgarlı Mahmut…</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899640" y="691920"/>
            <a:ext cx="727236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11.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ir ünlem edatı ile bir isim unsurundan oluşan kelime gruplarıdır. Çağırma grubu da denilen ünlem gruplarında ünlem edatı önce, isim unsuru sonra gelir. İsim unsuru tek kelimeden oluşabileceği gibi, bir kelime grubundan ibaret de olabilir. Vurgu ünlem edatı üzerinded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ünlem edatı + isim unsuru =  ünlem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Ey mavi göklerin beyaz ve kızıl süsü!, ey Türk gençliği!, ey gönlümün sultanı!, hey Sakarya!, hey Ali Pehlivan!, a canım!, be kardeşim!, bre yalan dünya!, hey çocukla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00000" y="691920"/>
            <a:ext cx="7128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2. SAYI GRUBU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asamak sistemine göre sıralanmış sayı isimleri topluluğudur. Gruptaki sayı isimlerinin dizilişi basamak sistemine göredir. Sayılar sondan başa doğru büyür. Küçük sayı sonda bulunur.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 beş yüz on iki, seksen dokuz…</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Not:</a:t>
            </a:r>
            <a:r>
              <a:rPr b="0" lang="tr-TR" sz="2000" spc="-1" strike="noStrike">
                <a:solidFill>
                  <a:srgbClr val="000000"/>
                </a:solidFill>
                <a:latin typeface="Times New Roman"/>
                <a:ea typeface="Times New Roman"/>
              </a:rPr>
              <a:t> Türkçede sayılar sayı grubu dışında aynı zamanda tek kelimeyle ya da sıfat tamlaması ile de karşılanabilir. Genellikle ara sayılar sayı grubudu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Bir, beş, on, yüz, bin,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isim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ki yüz, üç bin, otuz milyon,    </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ıfat tamlaması</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on bir, doksan iki, yüz elli dört</a:t>
            </a:r>
            <a:r>
              <a:rPr b="0" i="1" lang="tr-TR" sz="2000" spc="-1" strike="noStrike">
                <a:solidFill>
                  <a:srgbClr val="000000"/>
                </a:solidFill>
                <a:latin typeface="Wingdings"/>
                <a:ea typeface="Wingdings"/>
              </a:rPr>
              <a:t></a:t>
            </a:r>
            <a:r>
              <a:rPr b="0" i="1" lang="tr-TR" sz="2000" spc="-1" strike="noStrike">
                <a:solidFill>
                  <a:srgbClr val="000000"/>
                </a:solidFill>
                <a:latin typeface="Times New Roman"/>
                <a:ea typeface="Times New Roman"/>
              </a:rPr>
              <a:t>    sayı grubu</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1" i="1" lang="tr-TR" sz="2000" spc="-1" strike="noStrike">
                <a:solidFill>
                  <a:srgbClr val="000000"/>
                </a:solidFill>
                <a:latin typeface="Times New Roman"/>
                <a:ea typeface="Times New Roman"/>
              </a:rPr>
              <a:t>Not:</a:t>
            </a:r>
            <a:r>
              <a:rPr b="0" i="1" lang="tr-TR" sz="2000" spc="-1" strike="noStrike">
                <a:solidFill>
                  <a:srgbClr val="000000"/>
                </a:solidFill>
                <a:latin typeface="Times New Roman"/>
                <a:ea typeface="Times New Roman"/>
              </a:rPr>
              <a:t> Sayı gruplarının içinde sıfat tamlaması ya da tek kelimeden oluşan sayılar bulunabilir:</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yedi yüz elli: sayı grubu ( yedi / yüz: sıfat tamlaması), elli: kelime</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altı yüz doksan: sayı grubu (altı / yüz : sıfat tamlaması), doksan:kel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899640" y="260280"/>
            <a:ext cx="7272360" cy="612144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13. BİRLEŞİK FİİL GRUBU</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ir isim ile yardımcı bir fiilin ya da bir fiil ile yardımcı bir fiilin birleşmesiyle oluşan kelime gruplarıdır. Bir hareketi karşılamak üzere bir arada bulunan kelimeler topluluğudur. Türkçede üç tip birleşik fiil vardı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a. Bir İsim Unsuru ile Bir Yardımcı Fiilden Kurulanla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tip birleşik fiillerin kuruluşuna  «et-, ol-, yap-, eyle-, kıl-, bulun-, başla-» gibi  fiiller yardımcı fiil olarak katılır. İsim başta fiil sonda bulunu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Dost ol- , yok et- , hasta ol- , pişman ol- , devam et- , yazmış bulun- , ağlamaya başla- , spor yap- , sabret- , hisset- , affet-, bahset-, zannet-</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b. Bir Fiil Unsuru ile Bir Yardımcı Fiilden Kurulan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u tip fiillerde ana fiil unsuru başta bulunur. Buna «-a, -e,    -ı, -i, -u, -ü» gibi zarf fiil eklerinden birisi eklenir. Sonra  da «bil-, ver-, yaz-, dur-, kal-, koy-, gel-» gibi yardımcı fiiller getirilerek birleşik fiil yapılır. </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i="1" lang="tr-TR" sz="1800" spc="-1" strike="noStrike">
                <a:solidFill>
                  <a:srgbClr val="000000"/>
                </a:solidFill>
                <a:latin typeface="Times New Roman"/>
                <a:ea typeface="Times New Roman"/>
              </a:rPr>
              <a:t>koşabil-, yazıver-, bakakal-, düşeyaz-, düşüver-, salıver-, yürüyebil-, süregel-, öleyaz-, gidedur-, gidekoy-…</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899640" y="691920"/>
            <a:ext cx="7272360" cy="5761080"/>
          </a:xfrm>
          <a:prstGeom prst="rect">
            <a:avLst/>
          </a:prstGeom>
          <a:noFill/>
          <a:ln w="0">
            <a:noFill/>
          </a:ln>
        </p:spPr>
        <p:txBody>
          <a:bodyPr anchor="t">
            <a:normAutofit/>
          </a:bodyPr>
          <a:p>
            <a:pPr marL="228600" indent="-22860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ELİME GRUPLARI</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irden fazla kelimeden oluşan, kendi içinde bir bütünlük taşıyan dil birliklerine kelime grubu denir. Türkçede varlık, kavram, nitelik, durum ve hareketler kelime veya kelime grupları ile karşılanır.</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kelimelerin, bir varlığı, kavramı, niteliği, durumu, hareketi karşılamak üzere, belirli kurallar içinde yan yana gelerek oluşturdukları dil topluluklarıdır.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Varlıklar, kavramlar, nitelikler, durumlar, hareketler birer kelimeyle de karşılanabilir. Ancak bazen bir varlığı, kavramı, niteliği, durumu, hareketi ancak birden fazla kelimeyle karşılayabiliriz. İşte o zaman kelime gruplarını kullanırız. </a:t>
            </a:r>
            <a:endParaRPr b="0" lang="en-US" sz="22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Calibri"/>
              </a:rPr>
              <a:t>	</a:t>
            </a:r>
            <a:endParaRPr b="0" lang="en-US" sz="22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00000" y="691920"/>
            <a:ext cx="712800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 Anlamca Kaynaşmış Birleşik Fiille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u birleşik fiiller, bir isim ve bir fiil unsurundan meydana gelir. İsim başta fiil sonda bulunur. Unsurlardan biri veya hepsi sözlük anlamının dışında kullanılır. Anlamca kaynaşmış birleşik fiillerdir. Bir kısmı deyimleşmiştir.</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gn="just">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boş ver-, baş kaldır-, yol ver-, kan sustur-, el koy-, diş bile-, yatağa düş-, yollara düş-, gözden çıkar-, kulak kabart-, gönül ver-, göze gir-, tası tarağı topla-, gözden geçir-, kendini kaybet-, yol al-, deliye dön-, dile düş-, küplere bin-, yorgun düş-…</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899640" y="260280"/>
            <a:ext cx="7272360" cy="64087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14.</a:t>
            </a:r>
            <a:r>
              <a:rPr b="0" lang="tr-TR" sz="1900" spc="-1" strike="noStrike">
                <a:solidFill>
                  <a:srgbClr val="000000"/>
                </a:solidFill>
                <a:latin typeface="Times New Roman"/>
                <a:ea typeface="Times New Roman"/>
              </a:rPr>
              <a:t> </a:t>
            </a:r>
            <a:r>
              <a:rPr b="0" lang="tr-TR" sz="1900" spc="-1" strike="noStrike">
                <a:solidFill>
                  <a:srgbClr val="ff0000"/>
                </a:solidFill>
                <a:latin typeface="Times New Roman"/>
                <a:ea typeface="Times New Roman"/>
              </a:rPr>
              <a:t>KISALTMA GRUPLARI</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Bu gruplar; isim fiil, sıfat fiil veya zarf fiil gruplarından kısalmış ve kalıplaşmışlardır. Biri çekimli diğeri çekimsiz halde bulunan iki isim unsurunun birleşmesinden meydana gelirle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lang="tr-TR" sz="1900" spc="-1" strike="noStrike">
                <a:solidFill>
                  <a:srgbClr val="000000"/>
                </a:solidFill>
                <a:latin typeface="Times New Roman"/>
                <a:ea typeface="Times New Roman"/>
              </a:rPr>
              <a:t>Ortak özellikleri iki isim unsurundan meydana gelip kalıplaşmış unsurlar olmaları ve vurgunun ikinci unsur üzerinde bulunmasıdı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2060"/>
                </a:solidFill>
                <a:latin typeface="Times New Roman"/>
                <a:ea typeface="Times New Roman"/>
              </a:rPr>
              <a:t>	</a:t>
            </a:r>
            <a:r>
              <a:rPr b="1" lang="tr-TR" sz="1900" spc="-1" strike="noStrike">
                <a:solidFill>
                  <a:srgbClr val="002060"/>
                </a:solidFill>
                <a:latin typeface="Times New Roman"/>
                <a:ea typeface="Times New Roman"/>
              </a:rPr>
              <a:t>İsnat grubu, yükleme grubu, yaklaşma grubu, bulunma grubu, uzaklaşma grubu, vasıta grubu </a:t>
            </a:r>
            <a:r>
              <a:rPr b="0" lang="tr-TR" sz="1900" spc="-1" strike="noStrike">
                <a:solidFill>
                  <a:srgbClr val="000000"/>
                </a:solidFill>
                <a:latin typeface="Times New Roman"/>
                <a:ea typeface="Times New Roman"/>
              </a:rPr>
              <a:t>gibi gruplar kısaltma grubudur.</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ff0000"/>
                </a:solidFill>
                <a:latin typeface="Times New Roman"/>
                <a:ea typeface="Times New Roman"/>
              </a:rPr>
              <a:t>a. İsnat (Yükleme) Grubu:</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ff0000"/>
                </a:solidFill>
                <a:latin typeface="Times New Roman"/>
                <a:ea typeface="Times New Roman"/>
              </a:rPr>
              <a:t>	</a:t>
            </a:r>
            <a:r>
              <a:rPr b="0" lang="tr-TR" sz="1900" spc="-1" strike="noStrike">
                <a:solidFill>
                  <a:srgbClr val="000000"/>
                </a:solidFill>
                <a:latin typeface="Times New Roman"/>
                <a:ea typeface="Times New Roman"/>
              </a:rPr>
              <a:t>Aralarında isnat (yükleme) ilişkisi kurulan yani biri diğerine isnat edilen iki isim unsurundan meydana gelen kelime grubudur. İyelik ekli ya da yalın halde bulunan birinci unsur, yani isnat olunan isim başta, isnat edilen isim sonda bulunur. Birinci unsur hal eki almaz ama iyelik eki alabilir. </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Times New Roman"/>
                <a:ea typeface="Times New Roman"/>
              </a:rPr>
              <a:t>	</a:t>
            </a:r>
            <a:r>
              <a:rPr b="0" i="1" lang="tr-TR" sz="1900" spc="-1" strike="noStrike">
                <a:solidFill>
                  <a:srgbClr val="000000"/>
                </a:solidFill>
                <a:latin typeface="Times New Roman"/>
                <a:ea typeface="Times New Roman"/>
              </a:rPr>
              <a:t>Karnı tok, başı açık, gözü tok, eli açık, başı bozuk, gözü yaşlı, baş açık, ayak yalın, başı boş, çenesi düşük…</a:t>
            </a:r>
            <a:endParaRPr b="0" lang="en-US" sz="19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900" spc="-1" strike="noStrike">
                <a:solidFill>
                  <a:srgbClr val="000000"/>
                </a:solidFill>
                <a:latin typeface="Times New Roman"/>
                <a:ea typeface="Times New Roman"/>
              </a:rPr>
              <a:t>	</a:t>
            </a:r>
            <a:r>
              <a:rPr b="1" i="1" lang="tr-TR" sz="1900" spc="-1" strike="noStrike">
                <a:solidFill>
                  <a:srgbClr val="000000"/>
                </a:solidFill>
                <a:latin typeface="Times New Roman"/>
                <a:ea typeface="Times New Roman"/>
              </a:rPr>
              <a:t>Not: </a:t>
            </a:r>
            <a:r>
              <a:rPr b="0" lang="tr-TR" sz="1900" spc="-1" strike="noStrike">
                <a:solidFill>
                  <a:srgbClr val="000000"/>
                </a:solidFill>
                <a:latin typeface="Times New Roman"/>
                <a:ea typeface="Times New Roman"/>
              </a:rPr>
              <a:t>İsnat gruplarının çoğu sıfat fiil veya zarf fiil grubundan kısalmışlardır. karnı tok (olan) :sıfat fiil grubu ; başı açık (olarak): zarf fiil grubu</a:t>
            </a:r>
            <a:endParaRPr b="0" lang="en-US" sz="1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Vasıta Grubu: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asıta eki almış bir isimle başka bir ismin meydana getirdiği kelime grubudur. Birinci isim vasıta eki olan -le, -la ekini al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eninle dost, bayrakla süslü, arkadaşıyla dargın, parayla yüklü, bıçakla yaralı,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c.Yükleme Grubu:</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ükleme ekli bir isim unsurunun bir başka isim unsuru ile           kurduğu kelime grubudur. Birinci unsur yükleme eki (-i, -ı, -u, -ü) taşır. İsim fiil veya sıfat fiil grubundan kısalmıştı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İnsanı takdir, memuru teftiş, yüzü aşkın, kitabı tetkik, küçük çocukları af…</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899640" y="691920"/>
            <a:ext cx="720108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d.Y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klaşma hali eki (-e) almış bir isim unsurunun  başka bir isim unsuru ile meydana getirdiği gruptu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dile kolay, başa bela, içe dönük, cana yakın, keyfine düşkün, oyuna düşkün, sözüne sadık, gece yarısına yakın, güzel sanatlara merakl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e.Bulun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lunma eki (-de) almış bir isimle başka bir ismin meydana getirdiği grubun adı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ahanda yumurta, fırında makarna, çayda çıra, haftada bir, yükte hafif, dam üstünde saksağan, pahada ağır, üçte iki, işinde usta, solda sıfır, beş günde bi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f. Uzaklaşma Grubu:</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Uzaklaşma eki (-den) almış bir isimle başka bir ismin meydana getirdiği kelime grubudur. Birinci unsur, uzaklaşma eki (-dan, -den, -tan, -ten) taşır. İkinci unsur  genellikle bir vasıf ismidi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yandan çarklı, gözden ırak, candan arkadaş, sonradan görme, içten pazarlıklı, benden gizli, kıldan ince, kendinden emin, camdan keskin, bir yolculuktan sonra, elden düşme, yandan çarklı, candan dost, kafadan konta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899640" y="765000"/>
            <a:ext cx="7272360" cy="56167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ynakça</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KSARAYLI, İsmail (2007), Yükseköğretim Öğrencileri İçin Türk Dili, Manisa: Emek Matbaacılık.</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KER, Süer(2003), Çağdaş Türk Dili, Ankara: Akçağ  Yayınları. </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MİROSMANOĞLU, Ali, Türkçe-Kompozisyon, Emek Matbaası, Manisa 2006</a:t>
            </a:r>
            <a:r>
              <a:rPr b="1"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GÜNEŞ, Sezai(2004), Türk Dili Bilgisi, İzmir: Çağlayan Matbaas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RASOY Yakup, vd. (2001), Üniversiteler İçin Türk Dili ve Kompozisyon Bilgileri, Konya: Selçuk Üniversitesi Yaşatma ve Geliştirme Vakfı Yayınları.</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Slayt Numarası Yer Tutucusu 3"/>
          <p:cNvSpPr/>
          <p:nvPr/>
        </p:nvSpPr>
        <p:spPr>
          <a:xfrm>
            <a:off x="6458040" y="6356520"/>
            <a:ext cx="2057400" cy="365040"/>
          </a:xfrm>
          <a:prstGeom prst="rect">
            <a:avLst/>
          </a:prstGeom>
          <a:noFill/>
          <a:ln w="0">
            <a:noFill/>
          </a:ln>
        </p:spPr>
        <p:style>
          <a:lnRef idx="0"/>
          <a:fillRef idx="0"/>
          <a:effectRef idx="0"/>
          <a:fontRef idx="minor"/>
        </p:style>
        <p:txBody>
          <a:bodyPr lIns="90000" rIns="90000" tIns="46800" bIns="46800" anchor="ctr">
            <a:normAutofit fontScale="9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820C-F8F6-4F98-9D7F-D11B383F3D0D}" type="slidenum">
              <a:rPr b="0" lang="tr-TR" sz="1800" spc="-1" strike="noStrike">
                <a:solidFill>
                  <a:srgbClr val="898989"/>
                </a:solidFill>
                <a:latin typeface="Times New Roman"/>
                <a:ea typeface="Times New Roman"/>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00000" y="691920"/>
            <a:ext cx="7344000" cy="576108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elime grupları cümle içinde tek kelime gibi işlem görür. Kelime gruplarının en küçüğü iki kelimeden oluşur. Kelime grupları, başka bir kelime ya da kelime grubu ile cümlede bir araya gelirken grubun sonuna uygun bir ek getirilir; bu ek, grubun tamamını kapsayan bir özelliğe sahiptir. Örnek:</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Ben / bu şehrin sonu gelmez güzellikleri  olduğuna / inanırım.</a:t>
            </a:r>
            <a:endParaRPr b="0" lang="en-US" sz="22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ff0000"/>
                </a:solidFill>
                <a:latin typeface="Times New Roman"/>
                <a:ea typeface="Times New Roman"/>
              </a:rPr>
              <a:t>Özne</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Tümleç</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a:t>
            </a:r>
            <a:r>
              <a:rPr b="0" i="1" lang="tr-TR" sz="2200" spc="-1" strike="noStrike">
                <a:solidFill>
                  <a:srgbClr val="ff0000"/>
                </a:solidFill>
                <a:latin typeface="Times New Roman"/>
                <a:ea typeface="Times New Roman"/>
              </a:rPr>
              <a:t>        Yüklem</a:t>
            </a:r>
            <a:endParaRPr b="0" lang="en-US" sz="22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Gördüğünüz gibi  burada tümleç altı kelimeden meydana gelmiştir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ve yüklemle kelime grubu arasındaki bağlantıyı sağlayan ek </a:t>
            </a:r>
            <a:r>
              <a:rPr b="0" i="1" lang="tr-TR" sz="2200" spc="-1" strike="noStrike">
                <a:solidFill>
                  <a:srgbClr val="000000"/>
                </a:solidFill>
                <a:latin typeface="Times New Roman"/>
                <a:ea typeface="Times New Roman"/>
              </a:rPr>
              <a:t>–a </a:t>
            </a:r>
            <a:r>
              <a:rPr b="0" lang="tr-TR" sz="2200" spc="-1" strike="noStrike">
                <a:solidFill>
                  <a:srgbClr val="000000"/>
                </a:solidFill>
                <a:latin typeface="Times New Roman"/>
                <a:ea typeface="Times New Roman"/>
              </a:rPr>
              <a:t>yaklaşma durumu ekidir. Ek, sadece bağlandığı kelimeyi değil grubun tamamını yükleme bağlamıştır.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899640" y="691920"/>
            <a:ext cx="7272360" cy="5761080"/>
          </a:xfrm>
          <a:prstGeom prst="rect">
            <a:avLst/>
          </a:prstGeom>
          <a:noFill/>
          <a:ln w="0">
            <a:noFill/>
          </a:ln>
        </p:spPr>
        <p:txBody>
          <a:bodyPr anchor="t">
            <a:normAutofit/>
          </a:bodyPr>
          <a:p>
            <a:pPr lvl="1" marL="4572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Kelime Gruplarının Özellikleri:</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 Kelime grupları, cümle veya diğer kelime grupları içinde, tek kelime  gibi isim, sıfat, zarf görevinde bulunabilirle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 Kelimelerin grup içindeki sıralanışları kurallıdır.  Ana unsur genellikle sonda, yardımcı unsur baştadır. </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000000"/>
                </a:solidFill>
                <a:uFillTx/>
                <a:latin typeface="Times New Roman"/>
                <a:ea typeface="Times New Roman"/>
              </a:rPr>
              <a:t>Yemyeşil</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ovalar</a:t>
            </a:r>
            <a:endParaRPr b="0" lang="en-US" sz="20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yard. unsur</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ana unsur</a:t>
            </a:r>
            <a:endParaRPr b="0" lang="en-US" sz="2000" spc="-1" strike="noStrike">
              <a:solidFill>
                <a:srgbClr val="000000"/>
              </a:solidFill>
              <a:latin typeface="Calibri"/>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c) Kelime gruplarının diğer kelime ve gruplarla ilişkisi grubun sonundaki çekim ekiyle sağlanır.</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ürkçede belli başlı kelime grupları şunlard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	</a:t>
            </a:r>
            <a:r>
              <a:rPr b="1" lang="tr-TR" sz="2200" spc="-1" strike="noStrike">
                <a:solidFill>
                  <a:srgbClr val="ff0000"/>
                </a:solidFill>
                <a:latin typeface="Times New Roman"/>
                <a:ea typeface="Times New Roman"/>
              </a:rPr>
              <a:t>1.İSİM TAMLAMASI</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isim unsurunun iyelik sistemi içinde bir başka isim unsuruyla kurduğu kelime grubudur. Bir isim unsurunun bir başka isim unsurunu tamamlaması suretiyle meydana gelir. İsim tamlamalarında birinci unsura </a:t>
            </a:r>
            <a:r>
              <a:rPr b="1" lang="tr-TR" sz="2200" spc="-1" strike="noStrike">
                <a:solidFill>
                  <a:srgbClr val="000000"/>
                </a:solidFill>
                <a:latin typeface="Times New Roman"/>
                <a:ea typeface="Times New Roman"/>
              </a:rPr>
              <a:t>tamlayan</a:t>
            </a:r>
            <a:r>
              <a:rPr b="0" lang="tr-TR" sz="2200" spc="-1" strike="noStrike">
                <a:solidFill>
                  <a:srgbClr val="000000"/>
                </a:solidFill>
                <a:latin typeface="Times New Roman"/>
                <a:ea typeface="Times New Roman"/>
              </a:rPr>
              <a:t>; ikincisine de </a:t>
            </a:r>
            <a:r>
              <a:rPr b="1" lang="tr-TR" sz="2200" spc="-1" strike="noStrike">
                <a:solidFill>
                  <a:srgbClr val="000000"/>
                </a:solidFill>
                <a:latin typeface="Times New Roman"/>
                <a:ea typeface="Times New Roman"/>
              </a:rPr>
              <a:t>tamlanan</a:t>
            </a:r>
            <a:r>
              <a:rPr b="0" lang="tr-TR" sz="2200" spc="-1" strike="noStrike">
                <a:solidFill>
                  <a:srgbClr val="000000"/>
                </a:solidFill>
                <a:latin typeface="Times New Roman"/>
                <a:ea typeface="Times New Roman"/>
              </a:rPr>
              <a:t> adı verilir. İsim tamlamalarında tamlanan daima iyelik eki alır.  Tamlayan ise bazen ilgi eki alır, bazen almayabil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unsuru </a:t>
            </a:r>
            <a:r>
              <a:rPr b="0" lang="tr-TR" sz="2200" spc="-1" strike="noStrike">
                <a:solidFill>
                  <a:srgbClr val="ffc000"/>
                </a:solidFill>
                <a:latin typeface="Times New Roman"/>
                <a:ea typeface="Times New Roman"/>
              </a:rPr>
              <a:t>(+ilgi eki) </a:t>
            </a:r>
            <a:r>
              <a:rPr b="0" lang="tr-TR" sz="2200" spc="-1" strike="noStrike">
                <a:solidFill>
                  <a:srgbClr val="000000"/>
                </a:solidFill>
                <a:latin typeface="Times New Roman"/>
                <a:ea typeface="Times New Roman"/>
              </a:rPr>
              <a:t>+ isim unsuru + iyelik eki =  isim tamlaması</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Tamlayanın ek alıp almamasına göre isim tamlamaları iki şekilde adlandırılır:</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00000" y="691920"/>
            <a:ext cx="7344000" cy="576108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a. Belirtili isim tamlaması: </a:t>
            </a:r>
            <a:r>
              <a:rPr b="0" lang="tr-TR" sz="2200" spc="-1" strike="noStrike">
                <a:solidFill>
                  <a:srgbClr val="000000"/>
                </a:solidFill>
                <a:latin typeface="Times New Roman"/>
                <a:ea typeface="Times New Roman"/>
              </a:rPr>
              <a:t>Tamlayanın ve tamlananın ek aldığı tamlamalara denir. </a:t>
            </a: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sokağın gürültüsü, anasının gözü</a:t>
            </a:r>
            <a:r>
              <a:rPr b="0" lang="tr-TR" sz="2200" spc="-1" strike="noStrike">
                <a:solidFill>
                  <a:srgbClr val="000000"/>
                </a:solidFill>
                <a:latin typeface="Times New Roman"/>
                <a:ea typeface="Times New Roman"/>
              </a:rPr>
              <a:t>,</a:t>
            </a:r>
            <a:r>
              <a:rPr b="0" i="1" lang="tr-TR" sz="2200" spc="-1" strike="noStrike">
                <a:solidFill>
                  <a:srgbClr val="000000"/>
                </a:solidFill>
                <a:latin typeface="Times New Roman"/>
                <a:ea typeface="Times New Roman"/>
              </a:rPr>
              <a:t> sınıfın kapısı; çiçeğin kokusu; savaşın  kartalı; köhne Üsküdar’ın / dost ışıkları…</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b. Belirtisiz isim tamlaması: </a:t>
            </a:r>
            <a:r>
              <a:rPr b="0" lang="tr-TR" sz="2200" spc="-1" strike="noStrike">
                <a:solidFill>
                  <a:srgbClr val="000000"/>
                </a:solidFill>
                <a:latin typeface="Times New Roman"/>
                <a:ea typeface="Times New Roman"/>
              </a:rPr>
              <a:t>Tamlayanın yani birinci unsurun ek almadığı tamlamalardır.</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asa örtüsü, kumaş boyası, yolcu uçağı, Van kedisi, çoban yıldızı, buzdolabı, demir yolu, Cumhuriyet Türkiyesi…</a:t>
            </a:r>
            <a:r>
              <a:rPr b="0" i="1" lang="tr-TR" sz="2200" spc="-1" strike="noStrike">
                <a:solidFill>
                  <a:srgbClr val="000000"/>
                </a:solidFill>
                <a:latin typeface="Calibri"/>
              </a:rPr>
              <a:t>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899640" y="691920"/>
            <a:ext cx="7272360" cy="576108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ff0000"/>
                </a:solidFill>
                <a:latin typeface="Times New Roman"/>
                <a:ea typeface="Times New Roman"/>
              </a:rPr>
              <a:t>2. SIFAT TAMLAMASI </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Times New Roman"/>
                <a:ea typeface="Times New Roman"/>
              </a:rPr>
              <a:t>	</a:t>
            </a:r>
            <a:r>
              <a:rPr b="0" lang="tr-TR" sz="2200" spc="-1" strike="noStrike">
                <a:solidFill>
                  <a:srgbClr val="000000"/>
                </a:solidFill>
                <a:latin typeface="Times New Roman"/>
                <a:ea typeface="Times New Roman"/>
              </a:rPr>
              <a:t>Bir sıfat ile bir ismin meydana getirdiği tamlamalara </a:t>
            </a:r>
            <a:r>
              <a:rPr b="1" lang="tr-TR" sz="2200" spc="-1" strike="noStrike">
                <a:solidFill>
                  <a:srgbClr val="000000"/>
                </a:solidFill>
                <a:latin typeface="Times New Roman"/>
                <a:ea typeface="Times New Roman"/>
              </a:rPr>
              <a:t>sıfat tamlaması</a:t>
            </a:r>
            <a:r>
              <a:rPr b="0" lang="tr-TR" sz="2200" spc="-1" strike="noStrike">
                <a:solidFill>
                  <a:srgbClr val="000000"/>
                </a:solidFill>
                <a:latin typeface="Times New Roman"/>
                <a:ea typeface="Times New Roman"/>
              </a:rPr>
              <a:t> denir. Bir isim unsurunun bir sıfat unsuruyla nitelendiği veya belirtildiği kelime grubudur. Tamlamayı oluşturan sıfat veya isim unsuru tek tek kelimelerden de birer kelime grubundan da ibaret olabilir.</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fat unsuru + isim unsuru = sıfat tamlaması</a:t>
            </a: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ek / çocuk</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ni / araba</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Yemyeşil  / ağaç</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Uçuşan / yaprakla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vakları silkeleyen / rüzgâ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 / bahçe</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Tasasız / göz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Güzel / çerçeveler</a:t>
            </a:r>
            <a:br>
              <a:rPr sz="1600"/>
            </a:br>
            <a:r>
              <a:rPr b="0"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ocaman / bir / çalışma masası</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urşun yüklü / bulutlar</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Eskimiş / masa örtüsü</a:t>
            </a:r>
            <a:endParaRPr b="0" lang="en-US" sz="16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600" spc="-1" strike="noStrike">
                <a:solidFill>
                  <a:srgbClr val="000000"/>
                </a:solidFill>
                <a:latin typeface="Times New Roman"/>
                <a:ea typeface="Times New Roman"/>
              </a:rPr>
              <a:t>	</a:t>
            </a:r>
            <a:r>
              <a:rPr b="0" i="1" lang="tr-TR" sz="1600" spc="-1" strike="noStrike">
                <a:solidFill>
                  <a:srgbClr val="000000"/>
                </a:solidFill>
                <a:latin typeface="Times New Roman"/>
                <a:ea typeface="Times New Roman"/>
              </a:rPr>
              <a:t>Kara / deniz &gt; Karadeniz</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899640" y="691920"/>
            <a:ext cx="7201080" cy="5761080"/>
          </a:xfrm>
          <a:prstGeom prst="rect">
            <a:avLst/>
          </a:prstGeom>
          <a:noFill/>
          <a:ln w="0">
            <a:noFill/>
          </a:ln>
        </p:spPr>
        <p:txBody>
          <a:bodyPr anchor="t">
            <a:normAutofit/>
          </a:bodyPr>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3. SIFAT -FİİL GRUBU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sıfat fiil ile bu sıfat fiile bağlı unsur veya unsurlardan kurulan kelime gruplarına </a:t>
            </a:r>
            <a:r>
              <a:rPr b="1" lang="tr-TR" sz="2000" spc="-1" strike="noStrike">
                <a:solidFill>
                  <a:srgbClr val="000000"/>
                </a:solidFill>
                <a:latin typeface="Times New Roman"/>
                <a:ea typeface="Times New Roman"/>
              </a:rPr>
              <a:t>sıfat fiil grubu</a:t>
            </a:r>
            <a:r>
              <a:rPr b="0" lang="tr-TR" sz="2000" spc="-1" strike="noStrike">
                <a:solidFill>
                  <a:srgbClr val="000000"/>
                </a:solidFill>
                <a:latin typeface="Times New Roman"/>
                <a:ea typeface="Times New Roman"/>
              </a:rPr>
              <a:t> denir. Grubun ana unsuru sıfat fiildir ve sonda bulunur. Sıfat fiil, grupta yüklem görevindedir. Yan cümle özelliği taşırlar ve bir bütün halinde sıfat görevinde bulunurlar. </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Eski İstanbul'un güzel semtlerini yaratan</a:t>
            </a:r>
            <a:r>
              <a:rPr b="0" i="1" lang="tr-TR" sz="2000" spc="-1" strike="noStrike">
                <a:solidFill>
                  <a:srgbClr val="000000"/>
                </a:solidFill>
                <a:latin typeface="Times New Roman"/>
                <a:ea typeface="Times New Roman"/>
              </a:rPr>
              <a:t>         (Türklük)</a:t>
            </a:r>
            <a:br>
              <a:rPr sz="2000"/>
            </a:b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                  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Bütün hayalleri  yıkılmış</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insanlar)</a:t>
            </a:r>
            <a:br>
              <a:rPr sz="2000"/>
            </a:b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Her girdiği odaya bir şefkat serinliği getiren</a:t>
            </a:r>
            <a:r>
              <a:rPr b="0" i="1" lang="tr-TR" sz="2000" spc="-1" strike="noStrike">
                <a:solidFill>
                  <a:srgbClr val="000000"/>
                </a:solidFill>
                <a:latin typeface="Times New Roman"/>
                <a:ea typeface="Times New Roman"/>
              </a:rPr>
              <a:t>   (bu kız)</a:t>
            </a:r>
            <a:br>
              <a:rPr sz="2000"/>
            </a:br>
            <a:r>
              <a:rPr b="0" lang="tr-TR" sz="2000" spc="-1" strike="noStrike">
                <a:solidFill>
                  <a:srgbClr val="000000"/>
                </a:solidFill>
                <a:latin typeface="Times New Roman"/>
                <a:ea typeface="Times New Roman"/>
              </a:rPr>
              <a:t>	</a:t>
            </a:r>
            <a:r>
              <a:rPr b="0" i="1" lang="tr-TR" sz="2000" spc="-1" strike="noStrike">
                <a:solidFill>
                  <a:srgbClr val="ff0000"/>
                </a:solidFill>
                <a:latin typeface="Times New Roman"/>
                <a:ea typeface="Times New Roman"/>
              </a:rPr>
              <a:t>Sıfat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isim</a:t>
            </a:r>
            <a:br>
              <a:rPr sz="2000"/>
            </a:br>
            <a:r>
              <a:rPr b="0" i="1" lang="tr-TR" sz="2000" spc="-1" strike="noStrike">
                <a:solidFill>
                  <a:srgbClr val="ff0000"/>
                </a:solidFill>
                <a:latin typeface="Times New Roman"/>
              </a:rPr>
              <a:t> </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Yorgunluktan beti benzi solmuş</a:t>
            </a:r>
            <a:r>
              <a:rPr b="0" i="1" lang="tr-TR" sz="2000" spc="-1" strike="noStrike">
                <a:solidFill>
                  <a:srgbClr val="000000"/>
                </a:solidFill>
                <a:latin typeface="Times New Roman"/>
                <a:ea typeface="Times New Roman"/>
              </a:rPr>
              <a:t>     (işçi)</a:t>
            </a:r>
            <a:endParaRPr b="0" lang="en-US" sz="2000" spc="-1" strike="noStrike">
              <a:solidFill>
                <a:srgbClr val="000000"/>
              </a:solidFill>
              <a:latin typeface="Calibri"/>
            </a:endParaRPr>
          </a:p>
          <a:p>
            <a:pPr marL="228600" indent="-228600"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sıfat fiil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isi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900000" y="692280"/>
            <a:ext cx="7344000" cy="5976720"/>
          </a:xfrm>
          <a:prstGeom prst="rect">
            <a:avLst/>
          </a:prstGeom>
          <a:noFill/>
          <a:ln w="0">
            <a:noFill/>
          </a:ln>
        </p:spPr>
        <p:txBody>
          <a:bodyPr anchor="t">
            <a:normAutofit/>
          </a:bodyPr>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ff0000"/>
                </a:solidFill>
                <a:latin typeface="Times New Roman"/>
                <a:ea typeface="Times New Roman"/>
              </a:rPr>
              <a:t>4. ZARF -FİİL GRUBU</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	</a:t>
            </a:r>
            <a:r>
              <a:rPr b="0" lang="tr-TR" sz="2000" spc="-1" strike="noStrike">
                <a:solidFill>
                  <a:srgbClr val="000000"/>
                </a:solidFill>
                <a:latin typeface="Times New Roman"/>
                <a:ea typeface="Times New Roman"/>
              </a:rPr>
              <a:t>Bir zarf fiil ve bu zarf fiile bağlı unsur veya unsurlardan kurulan kelime gruplarına </a:t>
            </a:r>
            <a:r>
              <a:rPr b="1" lang="tr-TR" sz="2000" spc="-1" strike="noStrike">
                <a:solidFill>
                  <a:srgbClr val="000000"/>
                </a:solidFill>
                <a:latin typeface="Times New Roman"/>
                <a:ea typeface="Times New Roman"/>
              </a:rPr>
              <a:t>zarf fiil grubu</a:t>
            </a:r>
            <a:r>
              <a:rPr b="0" lang="tr-TR" sz="2000" spc="-1" strike="noStrike">
                <a:solidFill>
                  <a:srgbClr val="000000"/>
                </a:solidFill>
                <a:latin typeface="Times New Roman"/>
                <a:ea typeface="Times New Roman"/>
              </a:rPr>
              <a:t> denir. Ana unsur zarf fiildir. Yan cümle özelliği gösterirler ve yüklemi tarz, şekil ve zaman yönünden etkileyerek bir zarf  tamlayıcısı görevinde bulunurlar.</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Güneş batmadan, </a:t>
            </a:r>
            <a:r>
              <a:rPr b="0" i="1" lang="tr-TR" sz="2000" spc="-1" strike="noStrike">
                <a:solidFill>
                  <a:srgbClr val="000000"/>
                </a:solidFill>
                <a:latin typeface="Times New Roman"/>
                <a:ea typeface="Times New Roman"/>
              </a:rPr>
              <a:t>/  köye   / varmalıyız.</a:t>
            </a:r>
            <a:br>
              <a:rPr sz="2000"/>
            </a:br>
            <a:r>
              <a:rPr b="0" i="1" lang="tr-TR" sz="2000" spc="-1" strike="noStrike">
                <a:solidFill>
                  <a:srgbClr val="ff0000"/>
                </a:solidFill>
                <a:latin typeface="Times New Roman"/>
                <a:ea typeface="Times New Roman"/>
              </a:rPr>
              <a:t>(zarf fiil grubu)      tümleç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Pembe hayaller kura kura </a:t>
            </a:r>
            <a:r>
              <a:rPr b="0" i="1" lang="tr-TR" sz="2000" spc="-1" strike="noStrike">
                <a:solidFill>
                  <a:srgbClr val="000000"/>
                </a:solidFill>
                <a:latin typeface="Times New Roman"/>
                <a:ea typeface="Times New Roman"/>
              </a:rPr>
              <a:t>/     yolda       / yürüyordu.</a:t>
            </a:r>
            <a:br>
              <a:rPr sz="2000"/>
            </a:br>
            <a:r>
              <a:rPr b="0" i="1" lang="tr-TR" sz="2000" spc="-1" strike="noStrike">
                <a:solidFill>
                  <a:srgbClr val="ff0000"/>
                </a:solidFill>
                <a:latin typeface="Times New Roman"/>
                <a:ea typeface="Times New Roman"/>
              </a:rPr>
              <a:t>             (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tümleç</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Dün akşam eve giderken</a:t>
            </a:r>
            <a:r>
              <a:rPr b="0" i="1" lang="tr-TR" sz="2000" spc="-1" strike="noStrike">
                <a:solidFill>
                  <a:srgbClr val="000000"/>
                </a:solidFill>
                <a:latin typeface="Times New Roman"/>
                <a:ea typeface="Times New Roman"/>
              </a:rPr>
              <a:t>  kaza geçirmiş.</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yüklem</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u="sng">
                <a:solidFill>
                  <a:srgbClr val="000000"/>
                </a:solidFill>
                <a:uFillTx/>
                <a:latin typeface="Times New Roman"/>
                <a:ea typeface="Times New Roman"/>
              </a:rPr>
              <a:t>Uzun süre hiç konuşmadan</a:t>
            </a:r>
            <a:r>
              <a:rPr b="0" i="1" lang="tr-TR" sz="2000" spc="-1" strike="noStrike">
                <a:solidFill>
                  <a:srgbClr val="000000"/>
                </a:solidFill>
                <a:latin typeface="Times New Roman"/>
                <a:ea typeface="Times New Roman"/>
              </a:rPr>
              <a:t>  oturduk.</a:t>
            </a:r>
            <a:endParaRPr b="0" lang="en-US" sz="20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zarf fiil grubu)</a:t>
            </a: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yüklem</a:t>
            </a:r>
            <a:endParaRPr b="0" lang="en-US" sz="20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8T11:38:40Z</dcterms:created>
  <dc:creator>tuba</dc:creator>
  <dc:description/>
  <dc:language>en-US</dc:language>
  <cp:lastModifiedBy>pc</cp:lastModifiedBy>
  <dcterms:modified xsi:type="dcterms:W3CDTF">2018-04-23T19:20:27Z</dcterms:modified>
  <cp:revision>78</cp:revision>
  <dc:subject/>
  <dc:title>Slayt 1</dc:title>
</cp:coreProperties>
</file>