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111C5-1464-49CE-9CF1-BC2691A83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5A8B4-B3D0-46A0-923A-B04797A22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393C0-FF9A-442E-96CB-B9C732367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AB897-ACD5-485A-8BE3-38F946242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AE32F-FE4A-4D29-B214-79AFB94B4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67DAC-1BBA-4995-9F69-2330F22FC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22C9F-F155-4A5B-9622-208D521C0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6DBDB-4C43-4345-A20C-07DAFDF234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94CFB-896D-4400-91B1-0518ED7F9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85E07-12FE-4049-B887-2B7D07621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EA01-12AF-45B0-8ABD-00D73CDBA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EE1F5-0250-4F12-942B-48323F55B1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9295-23C6-4916-8673-DFA7CEC5A17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197000"/>
            <a:ext cx="7773840" cy="345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TÜRK YAZI DİLİNİN GELİŞMESİ </a:t>
            </a:r>
            <a:br>
              <a:rPr sz="3600"/>
            </a:br>
            <a:br>
              <a:rPr sz="3600"/>
            </a:br>
            <a:r>
              <a:rPr b="1" lang="tr-TR" sz="3600" spc="-1" strike="noStrike">
                <a:solidFill>
                  <a:srgbClr val="000000"/>
                </a:solidFill>
                <a:latin typeface="Times New Roman"/>
                <a:ea typeface="Times New Roman"/>
              </a:rPr>
              <a:t>VE </a:t>
            </a:r>
            <a:br>
              <a:rPr sz="3600"/>
            </a:br>
            <a:br>
              <a:rPr sz="3600"/>
            </a:br>
            <a:r>
              <a:rPr b="1" lang="tr-TR" sz="3600" spc="-1" strike="noStrike">
                <a:solidFill>
                  <a:srgbClr val="000000"/>
                </a:solidFill>
                <a:latin typeface="Times New Roman"/>
                <a:ea typeface="Times New Roman"/>
              </a:rPr>
              <a:t>TARİHÎ DÖNEMLERİ</a:t>
            </a:r>
            <a:br>
              <a:rPr sz="40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3160" y="475920"/>
            <a:ext cx="8142120" cy="626580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3. Kuzey-Doğu Türkçesi/Batı Türkçesi</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Bu dönemde Türkçe birden fazla yazı dili ile karşımıza çıkmaktadır. Eski Türkçenin son yıllarında Orta Asya’daki Türklük alemi parçalanmış, Hazar Denizi’nin kuzeyinden ve güneyinden, kuzeye ve batıya yayılarak yeni kültür merkezleri meydana getirmişlerdir.  </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i="1" lang="tr-TR" sz="2600" spc="-1" strike="noStrike">
                <a:solidFill>
                  <a:srgbClr val="002060"/>
                </a:solidFill>
                <a:latin typeface="Times New Roman"/>
                <a:ea typeface="Times New Roman"/>
              </a:rPr>
              <a:t>Kuzey Doğu Türkçesi</a:t>
            </a:r>
            <a:r>
              <a:rPr b="0" lang="tr-TR" sz="2600" spc="-1" strike="noStrike">
                <a:solidFill>
                  <a:srgbClr val="002060"/>
                </a:solidFill>
                <a:latin typeface="Times New Roman"/>
                <a:ea typeface="Times New Roman"/>
              </a:rPr>
              <a:t>, </a:t>
            </a:r>
            <a:r>
              <a:rPr b="0" lang="tr-TR" sz="2600" spc="-1" strike="noStrike">
                <a:solidFill>
                  <a:srgbClr val="000000"/>
                </a:solidFill>
                <a:latin typeface="Times New Roman"/>
                <a:ea typeface="Times New Roman"/>
              </a:rPr>
              <a:t>13. ve 14. yüzyıllarda Eski Türkçe ile yeni yazı dili arasında bir geçiş devresi olarak devam etmiş, daha sonra Kuzey ve Doğu Türkçesi olarak ikiye ayrılmışt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i="1" lang="tr-TR" sz="2600" spc="-1" strike="noStrike">
                <a:solidFill>
                  <a:srgbClr val="002060"/>
                </a:solidFill>
                <a:latin typeface="Times New Roman"/>
                <a:ea typeface="Times New Roman"/>
              </a:rPr>
              <a:t>Batı Türkçesi </a:t>
            </a:r>
            <a:r>
              <a:rPr b="0" lang="tr-TR" sz="2600" spc="-1" strike="noStrike">
                <a:solidFill>
                  <a:srgbClr val="000000"/>
                </a:solidFill>
                <a:latin typeface="Times New Roman"/>
                <a:ea typeface="Times New Roman"/>
              </a:rPr>
              <a:t>de  aynı dönemde meydana gelen iki farklı yazı dilinden biridir. O da kendi içinde Doğu Oğuzca ve Batı Oğuzca olarak iki kola ayrılmakta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a. Kuzey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 yüzyıldan zamanımıza kadar gelen ve Kuzey Türklerinin kullandığı Türkçedir. Bu yazı dili Kıpçak şivesine dayanır. Bu sebeple Kuzey Türkçesine </a:t>
            </a:r>
            <a:r>
              <a:rPr b="0" lang="tr-TR" sz="2800" spc="-1" strike="noStrike">
                <a:solidFill>
                  <a:srgbClr val="ff0000"/>
                </a:solidFill>
                <a:latin typeface="Times New Roman"/>
                <a:ea typeface="Times New Roman"/>
              </a:rPr>
              <a:t>Kıpçakça </a:t>
            </a:r>
            <a:r>
              <a:rPr b="0" lang="tr-TR" sz="2800" spc="-1" strike="noStrike">
                <a:solidFill>
                  <a:srgbClr val="000000"/>
                </a:solidFill>
                <a:latin typeface="Times New Roman"/>
                <a:ea typeface="Times New Roman"/>
              </a:rPr>
              <a:t>veya </a:t>
            </a:r>
            <a:r>
              <a:rPr b="0" lang="tr-TR" sz="2800" spc="-1" strike="noStrike">
                <a:solidFill>
                  <a:srgbClr val="ff0000"/>
                </a:solidFill>
                <a:latin typeface="Times New Roman"/>
                <a:ea typeface="Times New Roman"/>
              </a:rPr>
              <a:t>Tatarca</a:t>
            </a:r>
            <a:r>
              <a:rPr b="0" lang="tr-TR" sz="2800" spc="-1" strike="noStrike">
                <a:solidFill>
                  <a:srgbClr val="000000"/>
                </a:solidFill>
                <a:latin typeface="Times New Roman"/>
                <a:ea typeface="Times New Roman"/>
              </a:rPr>
              <a:t> da denilir. </a:t>
            </a:r>
            <a:r>
              <a:rPr b="0" i="1" lang="tr-TR" sz="2800" spc="-1" strike="noStrike">
                <a:solidFill>
                  <a:srgbClr val="000000"/>
                </a:solidFill>
                <a:latin typeface="Times New Roman"/>
                <a:ea typeface="Times New Roman"/>
              </a:rPr>
              <a:t>Codex Cumenicus </a:t>
            </a:r>
            <a:r>
              <a:rPr b="0" lang="tr-TR" sz="2800" spc="-1" strike="noStrike">
                <a:solidFill>
                  <a:srgbClr val="000000"/>
                </a:solidFill>
                <a:latin typeface="Times New Roman"/>
                <a:ea typeface="Times New Roman"/>
              </a:rPr>
              <a:t>(Kumanların Töreleri) bu dönemde yazılan en önemli eser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b. Doğu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 yüzyıldan zamanımıza kadar gelen ve Doğu, yani Orta Asya Türklerinin kullandığı yazı dilidir. </a:t>
            </a:r>
            <a:r>
              <a:rPr b="0" lang="tr-TR" sz="2800" spc="-1" strike="noStrike">
                <a:solidFill>
                  <a:srgbClr val="ff0000"/>
                </a:solidFill>
                <a:latin typeface="Times New Roman"/>
                <a:ea typeface="Times New Roman"/>
              </a:rPr>
              <a:t>Çağatayca</a:t>
            </a:r>
            <a:r>
              <a:rPr b="0" lang="tr-TR" sz="2800" spc="-1" strike="noStrike">
                <a:solidFill>
                  <a:srgbClr val="000000"/>
                </a:solidFill>
                <a:latin typeface="Times New Roman"/>
                <a:ea typeface="Times New Roman"/>
              </a:rPr>
              <a:t> adı ile de anılır. Bugün yerini modern Özbekçeye bırakmıştır. Bu dönemde yazılan  </a:t>
            </a:r>
            <a:r>
              <a:rPr b="0" i="1" lang="tr-TR" sz="2800" spc="-1" strike="noStrike">
                <a:solidFill>
                  <a:srgbClr val="000000"/>
                </a:solidFill>
                <a:latin typeface="Times New Roman"/>
                <a:ea typeface="Times New Roman"/>
              </a:rPr>
              <a:t>Mukaddimetü’l-Edeb, Kısasü’l-Enbiya, Nehcü’l-Feradis, Mu’inü’l-Mürid, Muhakemetü’l-Lügateyn </a:t>
            </a:r>
            <a:r>
              <a:rPr b="0" lang="tr-TR" sz="2800" spc="-1" strike="noStrike">
                <a:solidFill>
                  <a:srgbClr val="000000"/>
                </a:solidFill>
                <a:latin typeface="Times New Roman"/>
                <a:ea typeface="Times New Roman"/>
              </a:rPr>
              <a:t>dönemin dili özelliklerini yansıtan önemli eserler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3520" y="691920"/>
            <a:ext cx="8215200" cy="5832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Bat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ki Türkçe devresinden sonra ortaya çıkan iki yeni yazı dilinden biridir. Hazar’ın güneyinden batıya yayılan Batı Türklerinin kullandıkları yazı dilidir. 13. yüzyıldan günümüze kadar devam edip gelmiştir ve hâlâ devam et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Türkçesi, Oğuz şivesine dayanır. Onun için Oğuzca da denilir. Türklüğün en büyük ve en verimli yazı dili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oğu Oğuzca (Azerice) ve Batı Oğuzca (Osmanlı/Türkiye Türkçesi) olarak ikiye ayrıl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160" y="980640"/>
            <a:ext cx="7854840" cy="47516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 Doğu Oğuzcası (Azeri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Türkçesinden gelişen yazı dilidir. Azeri Türkçesi de denil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zerbaycan, Kafkasya, Doğu Anadolu ve Kuzey Irak sahalarında kullanılır. Fuzuli’nin bir çok eserinde bu Türkçenin izleri görül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160" y="692280"/>
            <a:ext cx="7854840" cy="590544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 Batı Oğuzcası (Osmanl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yazı dili de Batı Türkçesinden gelişmiştir. Aradaki fark, Azeri Türkçesine kuzey ve doğu Türkçelerinden bazı tesirlerin daha fazla girmiş olmasıdır. Ancak bu farklar çok küçüktür ve daha çok konuşma dilinde kalmıştır. Bu yüzden Osmanlı ve Azeri Türkçeleri Batı Türkçesi olarak tek bir yazı dili teşkil ederle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 üç devreye ayrıl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 Eski Anadolu Türkçes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 Osmanlı Türkçes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c- Türkiye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323640" y="475920"/>
            <a:ext cx="8569080" cy="626580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a. Eski Anadolu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nın ilk devresidir. 13-15. yüzyılları içine alır. Eski Türkçenin izlerini taşır. Bu bakımdan Batı Oğuzcasının bir geçiş ve oluş devresi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de Arapça, Farsça unsurlar henüz fazla değildir, fakat yabancı tamlamalar kullanılmakta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elçuklular, Anadolu Selçukluları ve Osmanlının ilk dönemlerinde kullanılmıştır. Azeri Türkçesiyle saha farkı henüz belirli değil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de bir çok eser verilir. Başlıcaları şun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tal Gazi Destanı, Danişmendname, Çarhname, Yunus Emre’nin şiirleri, Dede Korkut Hikayeler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5280" y="475920"/>
            <a:ext cx="8353440" cy="6048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3.c.II.b. Osmanlı Türkç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ı Oğuzcasının ikinci devresidir. 15. yüzyılın sonlarından 20. yüzyılın başına kadar devam etmiştir. Eski Türkçenin izleri artık kaybolmuş, yeni gramer şekilleri yerleşmişt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apça, Farsça kelime ve tamlamalar çokça artmıştır. Bazen öyle olmuş ki bir metinde Türkçe kelime sayısı yabancı kelimeden az kullanılmıştır. Baki, Nedim, Nabi, Şeyh Galib, Zati gibi usta sanatkarların yetiştiği dönem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323640" y="333360"/>
            <a:ext cx="8569080" cy="6191280"/>
          </a:xfrm>
          <a:prstGeom prst="rect">
            <a:avLst/>
          </a:prstGeom>
          <a:noFill/>
          <a:ln w="0">
            <a:noFill/>
          </a:ln>
        </p:spPr>
        <p:txBody>
          <a:bodyPr anchor="t">
            <a:no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0000"/>
                </a:solidFill>
                <a:latin typeface="Times New Roman"/>
                <a:ea typeface="Times New Roman"/>
              </a:rPr>
              <a:t>3.c.II.c. Türkiye Türkçesi</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1908, Meşrutiyet’in ilanından sonra başlar. Henüz yarım yüzyılı geçen bir yazı dilidir. Türkçe gramer yapısı Osmanlı Türkçesinden farksızdır. Yabancı unsurlar sadeleşme çalışmalarıyla en aza indirilmeye çalışılmıştı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Türkiye Türkçesinde dil terkiplerden kurtulmuş, cümle yapısı da büyük bir aydınlığa kavuşmuştur. Türk cümlesi karışık ve anlamsız uzunluğundan sıyrılıp, kısa, derli toplu, yanlışsız cümle haline gelmişt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Osmanlı Türkçesinden Türkiye Türkçesine geçiş, yazı dilini konuşma diline yaklaştırmak suretiyle gerçekleştirilmiştir. Türkiye Türkçesi döneminde, dilimize Arapça ve Farsçadan giren pek çok kelime atılmış ancak bu sefer de dile, Batı dillerinden birçok kelime girmiştir. Son dönemlerde özellikle İngilizcenin ağır bir baskısından söz edilebilir.</a:t>
            </a: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just">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404640"/>
            <a:ext cx="8353440" cy="604872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arihi Gelişim İçerisinde Yazılan </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Önemli Eserlerden Bazıları</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Köktürk Kitabeler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öktürk Alfabesiyle yazılmıştır ve Türk medeniyetinin yazılı ilk eseri olması sebebiyle önemlidir. Kitabeler, Tonyukuk, Kültigin ve Bilge Kağan adlarına dikilmiştir. Söylev türünde olan kitabelerde Türklerin Çinlilerle yaptıkları mücadeleler ile Büyük Köktürk devletinin kurulma süreci anlatılır. Ayrıca Türk milletine çeşitli öğütler veril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10920" y="687240"/>
            <a:ext cx="7638840" cy="115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ÜRK YAZI DİLİNİN TARİHÎ GELİŞİMİ</a:t>
            </a:r>
            <a:br>
              <a:rPr sz="3200"/>
            </a:br>
            <a:endParaRPr b="0" lang="en-US" sz="3200" spc="-1" strike="noStrike">
              <a:solidFill>
                <a:srgbClr val="000000"/>
              </a:solidFill>
              <a:latin typeface="Calibri"/>
            </a:endParaRPr>
          </a:p>
        </p:txBody>
      </p:sp>
      <p:sp>
        <p:nvSpPr>
          <p:cNvPr id="43" name="PlaceHolder 2"/>
          <p:cNvSpPr>
            <a:spLocks noGrp="1"/>
          </p:cNvSpPr>
          <p:nvPr>
            <p:ph type="subTitle"/>
          </p:nvPr>
        </p:nvSpPr>
        <p:spPr>
          <a:xfrm>
            <a:off x="533160" y="1844640"/>
            <a:ext cx="7854840" cy="4608720"/>
          </a:xfrm>
          <a:prstGeom prst="rect">
            <a:avLst/>
          </a:prstGeom>
          <a:noFill/>
          <a:ln w="0">
            <a:noFill/>
          </a:ln>
        </p:spPr>
        <p:txBody>
          <a:bodyPr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 yazı dilinin tarihî gelişimi denilince; başlangıcından bugüne kadar Türkçede görülen değişme ve gelişmelerin kısa tarihi anlaşılmalıdır. </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imizin tarihçesini görmeye geçmeden önce, dil olaylarında kesin tarih vermenin mümkün olmadığını, verilen tarihlerin ortalama, yaklaşık tarihler olduğunu belirtmekte fayda vardır.</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2. Kutadgu Bilig:(Mutluluk Veren Bilgi)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 dili ve edebiyatında çok önemli yeri olan bu eser, 1069-1070 yıllarında Yusuf Has Hacib tarafından yazılarak dönemin Karahanlı hükümdarına sunulmuştu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embolik bir anlatım ve karşılıklı konuşma şeklinde öğütler verilir. Eserin kahramanlarından Ay Toldı, mutluluğu; Kün Togdı, adaleti; Ögdilmiş, aklı; Odgurmış, hayatın sonunu temsil eder. Bu dört kahraman kendi aralarında konuşarak devlet yönetimi, insanlar arası ilişkiler, erdemli ve ahlaklı olma gibi konularda öğütler ver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er, mesnevi nazım şekliyle ve 6645 beyitten oluşur. Ayrıca 173 tane de dörtlük bulunu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3" name="Picture 2" descr="C:\Documents and Settings\Administrator\Desktop\kutad.jpg"/>
          <p:cNvPicPr/>
          <p:nvPr/>
        </p:nvPicPr>
        <p:blipFill>
          <a:blip r:embed="rId1"/>
          <a:stretch/>
        </p:blipFill>
        <p:spPr>
          <a:xfrm>
            <a:off x="539640" y="419040"/>
            <a:ext cx="7993080" cy="6073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395280" y="691920"/>
            <a:ext cx="835344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3.Divânü Lügati’t-Türk (Türk Dilinin Sözlüğü)</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şgarlı Mahmut tarafından 1072-1074 tarihinde yazılarak Abbasi halifesine sunulmuştur. Eser, Araplara Türkçeyi öğretmek amacıyla Arapça yaz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şgarlı Mahmut eserini yazarken Türklerin yaşadığı yerleri dolaşarak dil ve edebiyat malzemelerini derlemiştir. Sav, sagu, koşuk gibi sözlü ürünler bu eser sayesinde günümüze aktar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tap, bir sözlük olmasının yanında dil, tarih, coğrafya alanlarında da kaynak eserdir. Eserin sonunda bir dünya haritası da eklenmişt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395280" y="691920"/>
            <a:ext cx="835344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6" name="Picture 2" descr="C:\Documents and Settings\Administrator\Desktop\Kaşgarlı-Mahmut-Türk-Dünyası-Haritası.jpg"/>
          <p:cNvPicPr/>
          <p:nvPr/>
        </p:nvPicPr>
        <p:blipFill>
          <a:blip r:embed="rId1"/>
          <a:stretch/>
        </p:blipFill>
        <p:spPr>
          <a:xfrm>
            <a:off x="1042920" y="237960"/>
            <a:ext cx="7058160" cy="638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4. Atabetü’l-Hakayık ( Gerçeklerin Eşiğ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rahanlı döneminde yazılan bu eser, Edip Ahmet Yüknekî tarafından yazılmıştır. Yazılış tarihi tam olarak bilinmemekle beraber 12. yüzyılda yazıldığı tahmin edilme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adan doğma kör olan yazar, eserinde genel ahlaki değerlerden, erdemden, dürüstlüğün ve cömertliğin faziletlerinden bahsede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anzum olan eserde aruz ölçüsü kullanılı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69" name="Picture 2" descr="C:\Documents and Settings\Administrator\Desktop\atabetül.jpg"/>
          <p:cNvPicPr/>
          <p:nvPr/>
        </p:nvPicPr>
        <p:blipFill>
          <a:blip r:embed="rId1"/>
          <a:stretch/>
        </p:blipFill>
        <p:spPr>
          <a:xfrm>
            <a:off x="2376360" y="500040"/>
            <a:ext cx="4391280" cy="5857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5. Divan-ı Hikme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Hoca Ahmet Yesevî’nin dini-tasavvufi içerikli hikmetlerinin toplandığı kitabıdır. Karahanlı Türkçesiyle yazılan eserdeki hikmetlerin çoğunun Ahmet Yesevi’nin dervişleri tarafından söylendiği ve Ahmet Yesevi’ye mâl edildiği iddia edilmektedi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van-ı Hikmet’teki şiirlerde Allah ve Peygamber sevgisi, dünyanın geçiciliği, ahiret inancı gibi dini-tasavvufi konular işlenir. Bu yönüyle eser didaktik bir eser görünümündedir. Şiirlerin bir kısmı hece, bir kısmı aruzla yazılmış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72" name="Picture 2" descr="C:\Documents and Settings\Administrator\Desktop\kitap.jpg"/>
          <p:cNvPicPr/>
          <p:nvPr/>
        </p:nvPicPr>
        <p:blipFill>
          <a:blip r:embed="rId1"/>
          <a:stretch/>
        </p:blipFill>
        <p:spPr>
          <a:xfrm>
            <a:off x="2627280" y="404640"/>
            <a:ext cx="3984480" cy="5905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5.Muhakemetü’l-Lügateyn                                                (İki Dilin  Karşılaştırılması)</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li Şîr Nevâî tarafından yazılmıştır. Eserde Türkçe ve Farsçanın karşılaştırılması yapılarak Türkçenin Farsça kadar zengin bir dil olduğu savunulu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arsçayı ana dili kadar iyi bilen yazar, devrinde Türkçeyi hor gören sanatçıları uyarmayı da ihmal etmez.</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Picture 2" descr="C:\Documents and Settings\Administrator\Desktop\muhakemetül lugateyn 2.jpg"/>
          <p:cNvPicPr/>
          <p:nvPr/>
        </p:nvPicPr>
        <p:blipFill>
          <a:blip r:embed="rId1"/>
          <a:stretch/>
        </p:blipFill>
        <p:spPr>
          <a:xfrm>
            <a:off x="2286000" y="380880"/>
            <a:ext cx="4572000" cy="6096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250560" y="549000"/>
            <a:ext cx="8569080" cy="6119640"/>
          </a:xfrm>
          <a:prstGeom prst="rect">
            <a:avLst/>
          </a:prstGeom>
          <a:noFill/>
          <a:ln w="0">
            <a:noFill/>
          </a:ln>
        </p:spPr>
        <p:txBody>
          <a:bodyPr anchor="t">
            <a:noAutofit/>
          </a:bodyPr>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Türkçe, tarihî özellikleri itibariyle</a:t>
            </a:r>
            <a:r>
              <a:rPr b="0" i="1" lang="tr-TR" sz="2000" spc="-1" strike="noStrike">
                <a:solidFill>
                  <a:srgbClr val="000000"/>
                </a:solidFill>
                <a:latin typeface="Times New Roman"/>
                <a:ea typeface="Times New Roman"/>
              </a:rPr>
              <a:t> a-Eski Türkçe (8 - 13. yy) b-Orta Türkçe (13-15. yy) c-Yeni Türkçe (15-20. yy) d- Modern Türkçe dönemi </a:t>
            </a:r>
            <a:r>
              <a:rPr b="0" lang="tr-TR" sz="2000" spc="-1" strike="noStrike">
                <a:solidFill>
                  <a:srgbClr val="000000"/>
                </a:solidFill>
                <a:latin typeface="Times New Roman"/>
                <a:ea typeface="Times New Roman"/>
              </a:rPr>
              <a:t>olarak dörde ayrılabileceği gibi coğrafî  bölge ve diğer faktörlere göre</a:t>
            </a:r>
            <a:r>
              <a:rPr b="0" i="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şu dönemlere ayrılabili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1-Karanlık Dönem (VIII. yüzyıl önc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2-Eski Türkçe (8-13. yy)</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Göktürkç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Uygurc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c. Karahanlıc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3-Kuzey-Doğu Türkçesi / Batı Türkçesi (13-20. yy)</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Kuzey Türkçesi: Kıpçakça</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Doğu Türkçesi: Hakaniye Türkçesi&gt; Çağatayca&gt; Modern Özbekçe</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Batı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Doğu Oğuzcası : Azeri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Batı Oğuzcası : Eski Anadolu Türkçesi&gt; Osmanlı Türkçesi&gt; Türkiye Türkçesi</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79280" y="404640"/>
            <a:ext cx="8569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7" name="Picture 2" descr="C:\Documents and Settings\Administrator\Desktop\muhakemetül lugateyn.jpg"/>
          <p:cNvPicPr/>
          <p:nvPr/>
        </p:nvPicPr>
        <p:blipFill>
          <a:blip r:embed="rId1"/>
          <a:stretch/>
        </p:blipFill>
        <p:spPr>
          <a:xfrm>
            <a:off x="1238400" y="95400"/>
            <a:ext cx="6667200" cy="6667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6. Dede Korkut Hikayeler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üslüman Oğuzların Gürcülerle ve kendi aralarında yaptıkları mücadeleleri anlatan 12 hikayeden oluşur. Eser 15.yüzyılda yazıya geçirilmiştir. Hikayelerin ortak kahramanı Dede Korkut’tur ve hikayenin sonunda ortaya çık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0" name="Picture 2" descr="C:\Documents and Settings\Administrator\Desktop\dede korkut.jpg"/>
          <p:cNvPicPr/>
          <p:nvPr/>
        </p:nvPicPr>
        <p:blipFill>
          <a:blip r:embed="rId1"/>
          <a:stretch/>
        </p:blipFill>
        <p:spPr>
          <a:xfrm>
            <a:off x="2484360" y="333360"/>
            <a:ext cx="4238640" cy="6153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7. Mevlid (Vesiletü’n-Necât)</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5.yüzyılda Süleyman Çelebi tarafından yazılmıştır. Eserin konusu Hz. Peygamber’in doğumundan vefatına kadar geçen sürede yaşanan olay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nadolu’da başka mevlidlerde yazılmış fakat, hiçbirisi Süleyman Çelebi’ninki kadar beğenilmemiştir. Yazılmasının üzerinden uzun yıllar geçmesine rağmen günümüzde bile aynı heyecanla okunup, dinlenmektedi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3" name="Picture 2" descr="C:\Documents and Settings\Administrator\Desktop\mevlid 1.jpg"/>
          <p:cNvPicPr/>
          <p:nvPr/>
        </p:nvPicPr>
        <p:blipFill>
          <a:blip r:embed="rId1"/>
          <a:stretch/>
        </p:blipFill>
        <p:spPr>
          <a:xfrm>
            <a:off x="171468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8. Seyahatname</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vliya Çelebi tarafından 17. yüzyılda yazılan eser gezi yazısı türünün edebiyatımızdaki ilk ve en önemli örneği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vliya Çelebi, 17. yüzyılda Osmanlı Devleti’nin hüküm sürdüğü çoğu yeri gezerek edindiği izlenimleri 10 ciltlik eserinde toplamıştır. Seyahatname, tarih, coğrafya, folklor gibi bilim dallarına kaynaklık edecek nitelikte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serin süslü, mizahi ve ilgi çekici bir üslubu ile sade ve samimi bir dili vardı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6" name="Picture 4" descr="C:\Documents and Settings\Administrator\Desktop\seyehatname.jpg"/>
          <p:cNvPicPr/>
          <p:nvPr/>
        </p:nvPicPr>
        <p:blipFill>
          <a:blip r:embed="rId1"/>
          <a:stretch/>
        </p:blipFill>
        <p:spPr>
          <a:xfrm>
            <a:off x="1042920" y="981000"/>
            <a:ext cx="7207200" cy="47959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ubTitle"/>
          </p:nvPr>
        </p:nvSpPr>
        <p:spPr>
          <a:xfrm>
            <a:off x="395280" y="404640"/>
            <a:ext cx="8353440" cy="604872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pic>
        <p:nvPicPr>
          <p:cNvPr id="88" name="Picture 2" descr="C:\Documents and Settings\Administrator\Desktop\seyehatname 2.jpg"/>
          <p:cNvPicPr/>
          <p:nvPr/>
        </p:nvPicPr>
        <p:blipFill>
          <a:blip r:embed="rId1"/>
          <a:stretch/>
        </p:blipFill>
        <p:spPr>
          <a:xfrm>
            <a:off x="347760" y="1197000"/>
            <a:ext cx="8443800" cy="4464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7920"/>
            <a:ext cx="78519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TÜRKLERİN TARİH </a:t>
            </a:r>
            <a:r>
              <a:rPr b="1" lang="tr-TR" sz="2400" spc="-1" strike="noStrike">
                <a:solidFill>
                  <a:srgbClr val="000000"/>
                </a:solidFill>
                <a:latin typeface="Times New Roman"/>
                <a:ea typeface="Times New Roman"/>
              </a:rPr>
              <a:t>BOYUNCA</a:t>
            </a:r>
            <a:r>
              <a:rPr b="1" lang="tr-TR" sz="2800" spc="-1" strike="noStrike">
                <a:solidFill>
                  <a:srgbClr val="000000"/>
                </a:solidFill>
                <a:latin typeface="Times New Roman"/>
                <a:ea typeface="Times New Roman"/>
              </a:rPr>
              <a:t> KULLANDIĞI BELLİ BAŞLI ALFABELER</a:t>
            </a:r>
            <a:endParaRPr b="0" lang="en-US" sz="2800" spc="-1" strike="noStrike">
              <a:solidFill>
                <a:srgbClr val="000000"/>
              </a:solidFill>
              <a:latin typeface="Calibri"/>
            </a:endParaRPr>
          </a:p>
        </p:txBody>
      </p:sp>
      <p:sp>
        <p:nvSpPr>
          <p:cNvPr id="90" name="PlaceHolder 2"/>
          <p:cNvSpPr>
            <a:spLocks noGrp="1"/>
          </p:cNvSpPr>
          <p:nvPr>
            <p:ph type="subTitle"/>
          </p:nvPr>
        </p:nvSpPr>
        <p:spPr>
          <a:xfrm>
            <a:off x="323640" y="1413000"/>
            <a:ext cx="8569080" cy="525600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Göktürk Alfabesi</a:t>
            </a:r>
            <a:endParaRPr b="0" lang="en-US" sz="2800" spc="-1" strike="noStrike">
              <a:solidFill>
                <a:srgbClr val="000000"/>
              </a:solidFill>
              <a:latin typeface="Calibri"/>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öktürk anıtlarında kullanılan alfabedir. Göktürk yazısı 1893 yılında Danimarkalı bilim adamı Prof. Thomsen tarafından çözülmüştür. Bu alfabedeki şekiller İskandinav runik yazısına benzediği için eski Türk runik yazısı olarak da adlandırılmaktadır. 38 işaretten meydana gelir. Sağdan sola doğru yazılır. Harflerin büyük ve küçük şekilleri yoktur. Yazı sırasında harfler birbiriyle bitişmezler. Kelime başı, ortası ve sonunda şekil değiştirmezler. Kelimeler birbirinden üst üste iki nokta ile ayrılırlar. Zengin işaret sistemiyle Türk fonetiğine uygun bir alfabedir fakat pratik değildir.</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2" name="Picture 2" descr="C:\Documents and Settings\Administrator\Desktop\gokturk_alfabesi1[1].png"/>
          <p:cNvPicPr/>
          <p:nvPr/>
        </p:nvPicPr>
        <p:blipFill>
          <a:blip r:embed="rId1"/>
          <a:stretch/>
        </p:blipFill>
        <p:spPr>
          <a:xfrm>
            <a:off x="250920" y="399960"/>
            <a:ext cx="8642160" cy="611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533160" y="980640"/>
            <a:ext cx="7854840" cy="50403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1-Karanlık Dönem (VIII. yüzyıl önc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zılı belgelerin olmadığı ve sağlıklı bilgilere ulaşamadığımız dönemdi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Eski Türkçenin Yakutça, Çuvaşça ve daha önce de Moğolcayla birleşik olduğu düşünülmekte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4" name="Picture 2" descr="C:\Documents and Settings\Administrator\Desktop\gokturk-alfabesi.jpg"/>
          <p:cNvPicPr/>
          <p:nvPr/>
        </p:nvPicPr>
        <p:blipFill>
          <a:blip r:embed="rId1"/>
          <a:stretch/>
        </p:blipFill>
        <p:spPr>
          <a:xfrm>
            <a:off x="900000" y="260280"/>
            <a:ext cx="7344000" cy="626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6" name="Picture 2" descr="C:\Documents and Settings\Administrator\Desktop\orhun_yazitlari.jpg"/>
          <p:cNvPicPr/>
          <p:nvPr/>
        </p:nvPicPr>
        <p:blipFill>
          <a:blip r:embed="rId1"/>
          <a:stretch/>
        </p:blipFill>
        <p:spPr>
          <a:xfrm>
            <a:off x="2556000" y="476280"/>
            <a:ext cx="3895560" cy="6118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250920" y="404280"/>
            <a:ext cx="8642160" cy="6264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98" name="Picture 2" descr="C:\Documents and Settings\Administrator\Desktop\orhun yazıtları.jpg"/>
          <p:cNvPicPr/>
          <p:nvPr/>
        </p:nvPicPr>
        <p:blipFill>
          <a:blip r:embed="rId1"/>
          <a:stretch/>
        </p:blipFill>
        <p:spPr>
          <a:xfrm>
            <a:off x="468360" y="1268280"/>
            <a:ext cx="8137440" cy="5040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533520" y="691920"/>
            <a:ext cx="8286480" cy="5832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Uygur Alfab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öktürk alfabesinden sonra uzun süre kullanılmıştır. Mani rahiplerinin etkisiyle kabul edildiği sanılmaktadır. Uygurlar bu alfabeyi bağımsız bir devlet olduktan sonra kullanmış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On dört işaretlidir. Türkler buna dört işaret daha ekleyerek işaret sayısını on sekize çıkarmışlardır. İşaretlere eğik çizgiler hâkimdir. Sağdan sola yazılır, bir iki harf hariç diğerleri bitişirler.Yazılışı kolay olmasına rağmen işaret sayısı eksiktir. Bundan dolayı Türk fonetiğine uygun değildir. Harflerin kelime başı, ortası ve sonunda yazılışı farklıdır. Büyük ve küçük harf sistemi yoktu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33520" y="691920"/>
            <a:ext cx="8286480" cy="58323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800" spc="-1" strike="noStrike">
              <a:solidFill>
                <a:srgbClr val="000000"/>
              </a:solidFill>
              <a:latin typeface="Times New Roman"/>
              <a:ea typeface="Times New Roman"/>
            </a:endParaRPr>
          </a:p>
        </p:txBody>
      </p:sp>
      <p:pic>
        <p:nvPicPr>
          <p:cNvPr id="101" name="Picture 2" descr="C:\Documents and Settings\Administrator\Desktop\uygur-alfabesi.jpg"/>
          <p:cNvPicPr/>
          <p:nvPr/>
        </p:nvPicPr>
        <p:blipFill>
          <a:blip r:embed="rId1"/>
          <a:stretch/>
        </p:blipFill>
        <p:spPr>
          <a:xfrm>
            <a:off x="468360" y="0"/>
            <a:ext cx="8351640" cy="6858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24000" y="549000"/>
            <a:ext cx="8424720" cy="6048360"/>
          </a:xfrm>
          <a:prstGeom prst="rect">
            <a:avLst/>
          </a:prstGeom>
          <a:noFill/>
          <a:ln w="0">
            <a:noFill/>
          </a:ln>
        </p:spPr>
        <p:txBody>
          <a:bodyPr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Times New Roman"/>
                <a:ea typeface="Times New Roman"/>
              </a:rPr>
              <a:t>3.Arap Asıllı Türk Alfabesi</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20. yüzyılın başlarına kadar bütün Türklük âlemi tarafından kullanılan alfabedir. Aslı yirmi sekiz işaretlidir. Türkler buna dört işaret daha ekleyip işaret sayısını otuz ikiye çıkarmışlar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Otuz iki işaretlik bu alfabenin aslında on sekiz temel işareti vardır. Bu işaretlerin içinde üç tanesi (elif, vav, ye) ünlüdür. Bunlardan (vav, ye) aynı zamanda ünsüz olarak da kullanılır. Böyle olunca sadece ünlü olarak kullanılan (elif) kalmaktadır.</a:t>
            </a:r>
            <a:endParaRPr b="0" lang="en-US" sz="2600" spc="-1" strike="noStrike">
              <a:solidFill>
                <a:srgbClr val="000000"/>
              </a:solidFill>
              <a:latin typeface="Calibri"/>
            </a:endParaRPr>
          </a:p>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Sağdan sola doğru yazılır. Her harfin kelime başı, ortası ve sonunda aldığı şekil farklıdır.Yedi işaret hariç diğerleri bitişirler. Harflerin büyük ve küçük şekilleri yoktur. Kitap yazısı ile el yazısı arasında farklılıklar vardır.</a:t>
            </a:r>
            <a:endParaRPr b="0" lang="en-US" sz="2600" spc="-1" strike="noStrike">
              <a:solidFill>
                <a:srgbClr val="000000"/>
              </a:solidFill>
              <a:latin typeface="Calibri"/>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24000" y="-360"/>
            <a:ext cx="8424720" cy="6597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000000"/>
              </a:solidFill>
              <a:latin typeface="Times New Roman"/>
              <a:ea typeface="Times New Roman"/>
            </a:endParaRPr>
          </a:p>
        </p:txBody>
      </p:sp>
      <p:pic>
        <p:nvPicPr>
          <p:cNvPr id="104" name="Picture 2" descr="C:\Documents and Settings\Administrator\Desktop\arap_alfabesi_2.gif"/>
          <p:cNvPicPr/>
          <p:nvPr/>
        </p:nvPicPr>
        <p:blipFill>
          <a:blip r:embed="rId1"/>
          <a:stretch/>
        </p:blipFill>
        <p:spPr>
          <a:xfrm>
            <a:off x="826920" y="195120"/>
            <a:ext cx="7274160" cy="6467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24000" y="-360"/>
            <a:ext cx="8424720" cy="65977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000000"/>
              </a:solidFill>
              <a:latin typeface="Times New Roman"/>
              <a:ea typeface="Times New Roman"/>
            </a:endParaRPr>
          </a:p>
        </p:txBody>
      </p:sp>
      <p:pic>
        <p:nvPicPr>
          <p:cNvPr id="106" name="Picture 2" descr="C:\Documents and Settings\Administrator\Desktop\2232_02_foto_2_3.gif"/>
          <p:cNvPicPr/>
          <p:nvPr/>
        </p:nvPicPr>
        <p:blipFill>
          <a:blip r:embed="rId1"/>
          <a:stretch/>
        </p:blipFill>
        <p:spPr>
          <a:xfrm>
            <a:off x="611280" y="0"/>
            <a:ext cx="7848360" cy="6453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33520" y="549000"/>
            <a:ext cx="8286480" cy="6048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4.Latin Asıllı Türk Alfabes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ürkçenin Latin harfleriyle yazımı 14. yüzyıla kadar uzanır. İtalyan ve Alman misyonerlerce kaleme alınan Codex Cumanicus 1303 tarihinde Latin harfleriyle yazılan ilk Türkçe eserdir. 1533 ve 1636 yıllarında da Latin harfleriyle kaleme alınan Türkçe eserler vardır. Ayrıca bu harfler eski Sovyetler Birliğinde yaşayan Türkler tarafından 1928-1937 yıllan arasında da kullanılmışt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Latin asıllı Türk alfabesi, 3 Kasım 1928'den beri kullandığımız alfabedir. Yirmi dokuz işaretten meydana gelir. Orijinalinden bazı işaretler çıkarılmış, bazı işaretler de eklenmişti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ubTitle"/>
          </p:nvPr>
        </p:nvSpPr>
        <p:spPr>
          <a:xfrm>
            <a:off x="533160" y="620640"/>
            <a:ext cx="7854840" cy="540072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oldan sağa doğru yazılır. Harflerin büyük ve küçük şekilleri vardır. El yazısı ile kitap yazısı farklılıklar gösterir. Kitap yazısında şekiller bitişmezler. El yazısında kelimeler bitişmemekle birbirinden ayrılır.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l yazısına genellikle yuvarlak çizgiler hâkim olduğundan kullanışlı bir alfabe olup, zengin ünlü sistemiyle de Türk fonetiğine uygundu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533160" y="620640"/>
            <a:ext cx="8359560" cy="583272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 Eski Türkçe</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 yazı dilinin ele geçen ilk örnekleri, Göktürk bengü taşlarındaki metinlerdir. Şüphesiz bu metinler, Türk yazı dilinin ilk örnekleri değildir. Çünkü bu dil; işlek anlatım biçimi, soyut somut kavramların niceliği ve niteliği ile yeni oluşmuş bir dil olarak değil, işlenmiş bir dil olarak karşımıza çıkar. </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bakımdan, Türk yazı dilinin başlangıcı, dildeki gelişme dikkate alınırsa en az birkaç yüzyıl daha öncesine götürülmelidir. Nitekim 5. yüzyıla ait olduğu sanılan ve Göktürk alfabesi ile yazılan kimi küçük mezar taşlan (Yenisey, Tuva, Talaş  vb.), Eski Çin kaynaklarındaki bazı bilgiler ile Işık gölü civarında 1970'te açılan "Eşik Kurganı’nda ele geçen bir gümüş çanak içindeki Göktürk alfabesi ile yazılı iki satırlık kitabenin M.Ö. V.-IV. yüzyıllar olarak tarihlendirilmesi de bu düşünceyi kuvvetlendirmektedir. Ancak bu metinlerin kısalığı, bunların dil özellikleri hakkında kesin bilgilere ulaşmayı engellemektedir.</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3F2E-EFFC-4275-852F-3FE98DEF139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533160" y="620280"/>
            <a:ext cx="7854840" cy="504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ski Türkçe dönemi, Göktürk bengü taşlarındaki dil esas alındığında 8. yüzyılda başlayıp 12.-13. yüzyıla kadar devam etmiş olup, yazı dilimizin ilk devresini oluşturmaktadır. Orta Asya'da geniş bir Türklük âlemi hep aynı dille okuyup yazmışlar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şive ve ağız farkları kesin çizgilerle ayrılmamıştır. Bu dönemi; Göktürk, Uygur ve Karahanlı dönemi olmak üzere üç bölümde değerlendirmek mümkündü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3160" y="836280"/>
            <a:ext cx="7854840" cy="504036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a.Köktürkçe Dönemi</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dönem, Türkçenin yabancı öğeler bakımından en temiz dönemidir. Köktürk anıtlarındaki dili incelediğimizde, Çin ve Moğolistan gibi komşu ülkelerin dillerinden kelimeler girdiği görülmektedir. Ancak bunların sayısı çok azd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önemde Köktürk alfabesi kullanılmıştır. </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Orhun Yazıtları ya da Köktürk Kitabeleri denilen eserler bu dönemin en önemli yazılı kaynağıdır.</a:t>
            </a:r>
            <a:endParaRPr b="0" lang="en-US" sz="28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3520" y="836640"/>
            <a:ext cx="8215200" cy="5472000"/>
          </a:xfrm>
          <a:prstGeom prst="rect">
            <a:avLst/>
          </a:prstGeom>
          <a:noFill/>
          <a:ln w="0">
            <a:noFill/>
          </a:ln>
        </p:spPr>
        <p:txBody>
          <a:bodyPr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2.b.Uygurca Dönemi</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ktürk devleti yıkılınca 745 yılında yerine Uygur devleti kurulmuştur. Uygurlar resmî din olarak Manihaizm’i kabul ettiler. Din değişikliği dilde kendisini hemen göstermiş, bu yeni dine ait pek çok kelime ve kavram Türkçeye girmiştir. Bu dönemde; Budizm, Brahmanizm, Manihaizm gibi dinlerin dili olan Sanskritçe ile Soğdca, Çince, Tibetçe ve Farsçadan da dilimiz etkilenmiştir.</a:t>
            </a: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Uygurlar çok zengin yazılı malzeme bırakmıştır. Bunların bir kısmı Paris, Berlin ve Pekin'deki müzelerdedir. Uygurlar önce Mani sonra Soğd alfabesinden etkilenerek Uygur alfabesini geliştirip kullanmışlardır. </a:t>
            </a:r>
            <a:r>
              <a:rPr b="0" i="1" lang="tr-TR" sz="2400" spc="-1" strike="noStrike">
                <a:solidFill>
                  <a:srgbClr val="000000"/>
                </a:solidFill>
                <a:latin typeface="Times New Roman"/>
                <a:ea typeface="Times New Roman"/>
              </a:rPr>
              <a:t>Sekiz Yükmek (Sekiz Yığın), Prens Kalyanamkara ve Papamkara Hikayesi, Altın Işık </a:t>
            </a:r>
            <a:r>
              <a:rPr b="0" lang="tr-TR" sz="2400" spc="-1" strike="noStrike">
                <a:solidFill>
                  <a:srgbClr val="000000"/>
                </a:solidFill>
                <a:latin typeface="Times New Roman"/>
                <a:ea typeface="Times New Roman"/>
              </a:rPr>
              <a:t>bu dönemdeki önemli eserler  arasındadır.</a:t>
            </a:r>
            <a:endParaRPr b="0" lang="en-US" sz="2400" spc="-1" strike="noStrike">
              <a:solidFill>
                <a:srgbClr val="000000"/>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160" y="620640"/>
            <a:ext cx="7854840" cy="561672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2.c.Karahanlıca Dönemi</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840 yılında Uygur devleti yıkılınca Karahanlı devleti kurulmuştur (840-1212). Bu döneme ait ilk eserler 11. yüzyılda görülmeye başlanmıştır. Karahanlılar önce Orta Asya'da, 999 yılından sonra da Harezm bölgesinde hâkimiyet kurmuşlardır. Karahanlı sülâlesinden, Satuk Buğra Han 10. yüzyılın başlarında İslâm dinini kabul etmiş, Türkler bu tarihten itibaren de büyük kitleler halinde Müslüman olmaya başlamışlardır. Bu medeniyet değiştirme olayıyla birlikte Arapça ve Farsçadan pek çok kelime dilimize girmeye başlamıştır. </a:t>
            </a:r>
            <a:r>
              <a:rPr b="0" i="1" lang="tr-TR" sz="2800" spc="-1" strike="noStrike">
                <a:solidFill>
                  <a:srgbClr val="000000"/>
                </a:solidFill>
                <a:latin typeface="Times New Roman"/>
                <a:ea typeface="Times New Roman"/>
              </a:rPr>
              <a:t>Kutadgu Bilig, Atabetü’l-Hakayık, Divan-ı Hikmet, Divanü Lügati’t-Türk </a:t>
            </a:r>
            <a:r>
              <a:rPr b="0" lang="tr-TR" sz="2800" spc="-1" strike="noStrike">
                <a:solidFill>
                  <a:srgbClr val="000000"/>
                </a:solidFill>
                <a:latin typeface="Times New Roman"/>
                <a:ea typeface="Times New Roman"/>
              </a:rPr>
              <a:t>dönemin önemli eserleridir.</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1:11:18Z</dcterms:created>
  <dc:creator>HSN</dc:creator>
  <dc:description/>
  <dc:language>en-US</dc:language>
  <cp:lastModifiedBy>tuba</cp:lastModifiedBy>
  <dcterms:modified xsi:type="dcterms:W3CDTF">2014-10-09T09:05:45Z</dcterms:modified>
  <cp:revision>149</cp:revision>
  <dc:subject/>
  <dc:title>TÜRK YAZI DİLİNİN GELİŞMESİ VE TARİHÎ DÖNEMLERİ</dc:title>
</cp:coreProperties>
</file>