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F300-9167-4FAE-9F9D-A57F3E6CF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A3B-0854-4E90-9E9C-1DE6D08D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DC89-0A1B-40A7-AA00-98F909A0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A21A-BE6C-4F12-AC61-0F38A68B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BDA4-5709-468A-AA9F-6F5CB6D4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2E4-9736-4B10-BCD0-F8135C3B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1061-8775-417E-85AB-653E9F94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71A-7050-481A-88EA-E3E309E2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A1D-A071-40F6-82BB-8F5051A6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EC8-2D78-47F3-A2A4-51DD039D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55A-422F-44FB-ADB2-F0B80E2B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5D8-C974-4310-B373-A0E846A9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4236-0E0A-414D-A8E6-81D7778E9118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KTALAMA İŞARETLER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ygu ve düşünceleri daha açık ifade etmek, cümlenin yapısını ve duraklama noktalarını belirlemek, okumayı ve anlamayı kolaylaştırmak, sözün vurgu ve ton gibi özelliklerini belirtmek üzere noktalama işaretleri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llanılır. Başlıca noktalama işaretleri şunlard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292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 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, veya, yahut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ağlaçlarından önce de sonra d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n Atatürk'le iki veya üç defa karşılaştı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 tekrarlı bağlaçlardan önce ve sonr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m gider hem ağl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 bu deveyi gütmeli ya bu diyardan gitmeli.</a:t>
            </a:r>
            <a:r>
              <a:rPr b="0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Cümlede pekiştirme ve bağlama görevinde kullanılan  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/ de </a:t>
            </a:r>
            <a:r>
              <a:rPr b="0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ğlacından sonra virgül konmaz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mlamız, lisanımız düzelince lisanımız da kafamız düzelince düzelecek, çünkü o da ancak onlar kadar bozuktur, fazla değil!                                            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ınca / -ince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ında zarf-fiil görevinde kullanıl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 / mi 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in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n aç yattım mı kötü kötü rüyalar görürüm nede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in içinde zarf-fiil ekleriyle oluşturulmuş kelimeler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cak yemekte bir karara varıp arkadaşına dikkatli dikkatli bakarak konuştu.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art ekinden sonra virgül kon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r gözlerinle de aklın yatarsa anlatıver mille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-360" y="1425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LI VİRGÜL (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virgüllerle ayrılmış tür veya takımları birbirinden ayırmak için konu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rkek çocuklara Doğan, Tuğrul, Aslan, Orhan; kız çocuklara ise İnci, Çiçek, Gönül, Yonca adları veril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ğeleri arasında virgül bulunan sıralı cümleleri birbirinden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ölür, meydan kalır; yiğit ölür, şan kal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çerisinde birden fazla virgül kullanılmış cümlelerde öznenin kendinden hemen sonra gelen öğelere karışmamasını sağlama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ruk; Kenan, Hulusi ve Mustafa ile yaşıt sayılır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İ NOKTA (: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 örnek verilecek cümlen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ni harfler alındıktan sonra eski yazı ile bir tek kelime bile yazma yan iki kişi görmüşümdür: Atatürk ve İnönü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 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 açıklama yapılacak cümlen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kararın istinat ettiği en kuvvetli muhakeme ve mantık şu idi: Esas, Türk milletinin haysiyetli ve şerefli bir millet olarak yaşamasıd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biliminde uzun ünlüyü göstermek için kullanılı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:ile, ka:til, usu:le, i:c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-360" y="-360"/>
            <a:ext cx="90010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Ç NOK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mlanmamış cümle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çare ki çirkinliği  hemencecik ve herkes                                                                      tarafından görülüyordu da,   bu yanı…                                                                             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ba sayıldığı için veya bir başka sebepten ötürü açıklanmak istenmeyen kelime ve bölümlerin yerine konu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lavuzu karga olanın burnu b...tan çık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ıntılarda; başta, ortada ve sonda alınmayan kelime ve bölümlerin yerine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derken şehrin öte başından boğuk boğuk sesler gelmeye başladı...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özün bir yerde kesilerek geri kalan bölümün okuyucunun hayal dünyasına bırakıldığını göstermek veya ifadeye güç kat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a uğurlar olsun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takım sorunlar, durumlar ve örnekler sayılırken daha başkaları olduğunu göstermek için kullanıl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vler, arabalar, yatlar, katla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ve seslenmelerde anlamı pekişti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Koca Ali…Koca Ali!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şılıklı konuşmalarda, yeterli olmayan, eksik bırakılan cevaplarda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imsi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i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gi Al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—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           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 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ç nokta yerine iki veya daha çok nokta kullan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İŞARETİ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bildiren cümle veya söz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zaman tükenecek bu yollar, arabacı?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zı cümleler de soru kelimesi barındırmadığı hâlde soru cümlesidir. Bunlar soru işareti ile biter. Bu cümlelerin soru anlamı vurgu ve tonlama ile belirtil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şınız?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n alacaktın?</a:t>
            </a:r>
            <a:br>
              <a:rPr sz="2800"/>
            </a:b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rdü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nmeyen, kesin olmayan veya şüpheyle karşılanan yer, tarih vb. durumlar için kullanılı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1320), (Doğum yeri: ?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 / mi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i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ınca / -ince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ında zarf-fiil işleviyle kullanıldığında soru işareti kon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am oldu mu sürüler döner. Hava karardı mı eve gideri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ru ifadesi taşıyan sıralı ve bağlı cümlelerde soru işareti en so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ok yakından mı bu sesler, çok uzaklardan mı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İŞARETİ (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inç, kıvanç, acı, korku, şaşma gibi duyguları anlatan cümlelerin sonu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 mutlu Türk’üm diyene!    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şk olsu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lenme, hitap ve uyarı sözlerinden sonr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rdular! İlk hedefiniz Akdeniz, ileri!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y, kinaye veya küçümseme anlamı kazandırılmak istenen sözden hemen sonra yay ayraç içinde ünlem işareti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eseymiş bir günde bitirirmiş (!) ama ne yazık ki vakti yokmuş (!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260280"/>
            <a:ext cx="84247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 (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nin sonuna konur. Nokta, duraklama yapılacağını bildir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 Dil Kurumu, 1932 yılında kurulmuşt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isim veya unvan olan bir kelime birkaç harfle kısaltılıyorsa yalnız ilk harf büyük yazılır ve sonuna nokta konulur. Buna karşılık kurum, kuruluş isimlerinin kısaltmalarında nokta kullan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., İst., Doç., Dr., Av., Al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MM, BM, AB</a:t>
            </a:r>
            <a:br>
              <a:rPr sz="2800"/>
            </a:b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 işareti, seslenme ve hitap sözlerinden hemen sonra konulabileceği gibi cümlenin sonuna da konabil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rkadaş, biz bu yolda türküler tutturur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a uğurlar olsun... Ayrılıyor yolumuz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nlemden sonra üç nokta yerine iki nokta konulması yeterli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ök ekini biçer gibi!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-360"/>
            <a:ext cx="91058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SA ÇİZGİ (-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tıra sığmayan kelimeler bölünürken satır sonuna kon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ğuktan mı titriyordum, yoksa heyecandan, üzüntüden mi bil-  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m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 sözleri ve ara cümleleri ayırmak için kullanılı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üçük bir sürü -dört inekle birkaç koyun- köye giren geniş yolun ağzında durmuştu.             </a:t>
            </a:r>
            <a:r>
              <a:rPr b="0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                                   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bilgisinde kökleri ve ekleri ayırmak için kon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-ış, dur-ak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il kök ve gövdelerini göstermek için kullanılır: 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-, dur-, gör-, ver-; başar-, kana-, okut-, taşla-, yazdır-…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lerin başına konu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ak, -den, -ış, -lı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celeri göstermek için kullanılır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-raş-tır-ma, bi-le-zik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 arasında 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ve, ile, ila, arasında”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lamlarını vermek için kullanılı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çe-Fransızca Sözlük, Aydın-İzmir yolu, Ankara-İstanbul uçak seferleri, Türk-Alman ilişkileri, Ural-Altay dil grubu,  09.30-10.30, Beşiktaş-Fenerbahçe karşılaşması, 1914-1918 Birinci Dünya Savaşı, 2003-2004 öğretim yıl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-360" y="-360"/>
            <a:ext cx="89298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alibri"/>
              </a:rPr>
              <a:t>UZUN ÇİZGİ (—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Yazıda satır başına alınan konuşmaları göstermek için kullanılır. Buna </a:t>
            </a:r>
            <a:r>
              <a:rPr b="1" i="1" lang="tr-TR" sz="2400" spc="-1" strike="noStrike">
                <a:solidFill>
                  <a:srgbClr val="000000"/>
                </a:solidFill>
                <a:latin typeface="Calibri"/>
              </a:rPr>
              <a:t>konuşma çizgisi</a:t>
            </a: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 de den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Frankfurt'a gelene herkesin sorduğu şudu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— 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Eski şehri gezdin mi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tr-TR" sz="2000" spc="-1" strike="noStrike">
                <a:solidFill>
                  <a:srgbClr val="ff0000"/>
                </a:solidFill>
                <a:latin typeface="Comic Sans MS"/>
              </a:rPr>
              <a:t>    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                                                                        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Calibri"/>
              </a:rPr>
              <a:t>UYARI :</a:t>
            </a: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onuşmalar tırnak içinde verildiğinde uzun çizgi kullanıl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ĞİK ÇİZGİ ( /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n yana yazılması gereken durumlarda mısraların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orkma! Sönmez bu şafaklarda yüzen al sancak / Sönmeden yurdumun üstünde tüten en son ocak / O benim milletimin yıldızıdır parlayacak / O benimdir o benim milletimindir ancak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                 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 yazarken apartman numarası ile daire numarası arasına ve semt ile şehir arasın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ay Sokağı, Nu.: 21/6  Kurtuluş / ANKA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in yazılışında gün, ay ve yılı gösteren sayıları birbirinden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/11/196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bilgisinde eklerin farklı biçimlerini göstermek için kullanılır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a/-e, -an /-en, -lık /-lik, -madan /-me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RNAK İŞARETİ (“ 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ka bir kimseden veya yazıdan olduğu gibi aktarılan sözler tırnak içine alın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lu önderin “Ne mutlu Türk’üm diyene!” sözü her Türk'ü duygulandır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olarak belirtilmek istenen sözler tırnak içine alını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ni bir “barış taarruzu” başlad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erisinde kitapların ve yazıların adları ve başlıkları tırnak içine alın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hya Kemal'in bazı şiirleri “Kendi Gök Kubbemiz” adı altında çıkt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ki alıntının sonunda bulunan işaret (nokta, soru işareti, ünlem işareti vb.) tırnak içinde kalı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“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ıl yaşta değil baştadır.” atasözünü duydun mu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e alınan sözlerden sonra kesme işareti kullanıl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hya Kemal’in “Aziz İstanbul”unu okudunuz m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 TIRNAK İŞARETİ ( ‘ ’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 verilen ve yeniden tırnağa alınması gereken bir sözü belirt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debiyat öğretmeni “Şiirler içinde ‘Han Duvarları’ gibisi var mı?” ded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Y AYRAÇ (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nin yapısıyla doğrudan doğruya ilgili olmayan açıklamalar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adolu kentlerini, köylerini (Köy sözünü de çekinerek yazıyorum.) gezsek bile görmek için değil, kendimizi göstermek için geziyoru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ıntıların aktarıldığı eseri veya yazarı göste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yametler koparmak neydi ey bülbül, nedir derdin?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hmet Akif Erso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000" y="115560"/>
            <a:ext cx="835164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ılardan sonra sıra bildirmek için nokt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, 15., 20…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 sayıları ekle gösterildiğinde rakamdan sonra sadece kesme işareti ve ek yazılır; ayrıca nokta kon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.'inci değil 8'inci, 2.'nci değil 2'nci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Arka arkaya sıralandıkları için virgülle veya çizgiyle ayrılan rakamlardan  yalnızca  sonuncu  rakamdan sonra  nokta 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, 4 ve 7. madde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I – XIV. yüzyıl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söze alay, kinaye veya küçümseme anlamı kazandırmak için kullanılan ünlem işareti yay ayraç içine alın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bilginin şüpheyle karşılandığını veya kesin olmadığını göstermek için kullanılan soru işareti de yay ayraç içine alın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eseymiş bir günde bitirirmiş (!) ama ne yazık ki vakti yokmuş (!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 1320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y ayraç içinde bulunan özel isimler ve yargı bildiren anlatımlar büyük harfle başlar ve sonuna uygun noktalama işareti getirili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kkında açıklama yapılan söze ait ek, ayraç kapandıktan sonra yazılı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(1240?- 1320)’ nin eserleri okunmalı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-3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ÖŞELİ AYRAÇ [ 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raç içinde ayraç kullanılması gereken durumlarda yay ayraçtan önce köşeli ayraç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likarnas Balıkçısı [Cevat Şakir Kabaağaçlı (1886-1973)] en güzel eserlerini Bodrum'da yazmışt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e ilişkin bazı ayrıntıları göster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şat Nuri [Güntekin], Çalıkuşu, Dersaadet, 1922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42560" y="0"/>
            <a:ext cx="9001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SME İŞARETİ ( ’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adlara getirilen iyelik, durum ve bildirme ekleri kesme işaretiyle ayr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tih Sultan Mehmet’e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Cumhuriyeti’ni, 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lah’ın, Asya’nı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rmara Denizi’nden, Dolmabahçe Sarayı’nı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utuk’ta, Safahat’tan, Sarıkız’ı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ndan sonra gelen saygı sözlerine getirilen ekleri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ihat Bey’e, Ayşe Hanım’dan, Mahmut Efendi’ye, Enver Paşa’ya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v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0" y="-3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saltmalara getirilen ekleri ayırmak için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BMM'nin, TDK'nin, BM'de, ABD'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ek veya harften sonra gelen ekleri ayırmak için konur: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'dan z'ye kadar, b'nin m'ye dönüşmesi, Türkçede -lık'la yapılmış sözl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0" y="142920"/>
            <a:ext cx="91440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onunda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, ç, t, k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ünsüzlerinden biri bulun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met, Çelik, Çiçek, Halit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i özel adlara ünlüyle başlayan ek getirildiğinde kesme işaretine rağme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hmedi, Çeliği, Çiçeği, Halidi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çiminde son ses yumuşatılarak söylen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Özel adlar yerine kullanılan 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"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zamiri cümle içinde büyük harfle yazılmaz ve kendisinden sonra gelen ekler kesme işaretiyle ayrılma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urum, kuruluş, kurul ve iş yeri adlarına gelen ekler kesmeyle ayrıl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Büyük Millet Meclisine, Türk Dil Kurumunda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0" y="-36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Özel adlara getirilen yapım ekleri, çokluk eki ve bunlardan sonra gelen diğer ekler kesmeyle ayrılmaz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nisalı,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Türklük, Türkleşmek, Türkçü, Türkçülük, Türkç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vanlardan sonra gelen ekler kesmeyle ayrılmaz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mhurbaşkanınca, Başbakanca, Türk Dil Kurumu Başkanına göre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onunda nokta bulunan kısaltmalarla üs işaretli kısaltmalar kesmeyle ayrılmaz. Bu tür kısaltmalarda ek noktadan ve üs işaretinden sonra,  kelimenin ve üs işaretinin okunuşuna uygun olarak yaz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b.leri, Alm.dan,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²ye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metre kareye)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kım, çağ ve dönem adlarından sonra gelen ekler kesmeyle ayrılmaz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ski Çağın, Yükselme Dönemini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56800" y="981000"/>
            <a:ext cx="7572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ynakç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RAYLI, İsmail (2007), Yükseköğretim Öğrencileri İçin Türk Dili, Manisa: Emek Matbaacılı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ER, Süer(2003), Çağdaş Türk Dili, Ankara: Akçağ  Yayınları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İROSMANOĞLU, Ali, Türkçe-Kompozisyon, Emek Matbaası, Manisa 2006</a:t>
            </a: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NEŞ, Sezai(2004), Türk Dili Bilgisi, İzmir: Çağlayan Matbaas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SOY Yakup, vd. (2001), Üniversiteler İçin Türk Dili ve Kompozisyon Bilgileri, Konya: Selçuk Üniversitesi Yaşatma ve Geliştirme Vakfı Yayınları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ayt Numarası Yer Tutucus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F9F6-BF5E-463A-92AC-22E0BB776E73}" type="slidenum">
              <a:rPr b="0" lang="tr-TR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3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in yazılışında gün, ay ve yılı gösteren sayıları birbirinden ayırmak için konu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.5.1453, 29.10.19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YARI: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hlerde ay adları yazıyla da yazılabilir. Bu durumda ay adlarından önce ve sonra nokta kullanılmaz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 Mayıs 1453, 29 Ekim 192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at ve dakika gösteren sayıları birbirinden ayırmak için konu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en 09.15'te kalktı.   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in sonuna konu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âh Sırrı Levend, Türk Dilinde Gelişme ve Sadeleşme Evreleri, TDK Yayınları, Ankara, 196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İRGÜL (,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biri ardınca sıralanan eş görevli kelime ve kelime gruplarının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ırtınadan, soğuktan, karanlıktan korkarı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ssiz dereler, solgun ağaçlar, sarı güller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lı cümleleri birbirinden ayırmak için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 varmış, bir yokmuş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mduk, bekledik, düşündük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   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un cümlelerde yüklemden uzak düşmüş olan öğeleri belirtme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iye Hanımefendi, merdivenlerde oğlunun ayak seslerini duyar duymaz, hasretlisini karşılamaya atılan bir genç kadın gibi, koltuğundan fırlamış ve ona kapıyı kendi eliyle açmaya gelmiş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                                               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Yakup Kadri Karaosmanoğl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ara sözleri ve ara cümleleri ayırmak için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Şimdi, efendiler, müsaade buyurursanız, size bir sual sorayı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lama güç kazandırmak için tekrarlanan kelimeler arasın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am, yine akşam, yine akşam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ırnak içinde olmayan aktarma cümlelerinden sonra konur: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atça'ya yarın gideceğim, ded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ndisinden sonraki cümleye bağlı olarak ret, kabul ve teşvik bildiren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“hayır, yok, evet, peki, pekâlâ, tamam, olur, hayhay, başüstüne, öyle, haydi, elbette” </a:t>
            </a: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i kelimelerden sonra konur</a:t>
            </a:r>
            <a:r>
              <a:rPr b="1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ki, gideriz. Olur, ben de size katılırım. Hayhay, memnun oluruz. Haydi, geç kalıyoru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kelimenin kendisinden sonra gelen kelime veya kelime gruplarıyla yapı ve anlam bakımından bağlantısı olmadığını göstermek ve anlam karışıklığını önlemek için kullanıl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gece, eğlenceleri içlerine sinmedi.</a:t>
            </a: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tap için kullanılan kelimelerden sonra konur</a:t>
            </a: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fendiler, bilirsiniz ki hayat demek, mücadele, müsademe demekt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n Başka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vgili Kardeşim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bliyografik künyelerde yazar, eser, basımevi vb. maddelerden sonra konu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alih Rıfkı Atay, Tuna Kıyıları, Remzi Kitabevi, İstanbul, 193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1T17:23:39Z</dcterms:created>
  <dc:creator>pc</dc:creator>
  <dc:description/>
  <dc:language>en-US</dc:language>
  <cp:lastModifiedBy>Mehmet</cp:lastModifiedBy>
  <dcterms:modified xsi:type="dcterms:W3CDTF">2014-11-28T10:57:55Z</dcterms:modified>
  <cp:revision>43</cp:revision>
  <dc:subject/>
  <dc:title>NOKTALAMA İŞARETLERİ</dc:title>
</cp:coreProperties>
</file>