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B053-764E-4376-A33D-5F6F10188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F5F-B726-40B4-9D03-98EDEE8FB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5F0-F701-4E64-AF18-21078D1AC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2B95-E17C-4717-BB77-32DD4731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8A50-5EC1-4D3D-AAB2-0F360A26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100A-5E39-4430-B5AC-6DE9D000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1CD2-49F7-4578-8217-C9EEDADC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7831-5405-4A2D-AEF3-19E71F57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2A9-CCA3-47FA-84BB-5968488F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B6E9-DBE5-476C-87F9-0355AD63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F1D-8160-4FA2-BB38-3C34454E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9DC6-2F85-4105-A76D-D66DC768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0F91-DBA0-4B41-A46E-05FF4094A432}" type="slidenum">
              <a:rPr b="0" lang="tr-TR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3. HAF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CÜMLE TÜRLER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60392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2. İsim cümlesi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üklemi ek fiile çekimlenmiş isim veya isim soylu  bir kelime olan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OT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Ek fiil, -idi, -imiş, -ise, -idir (-di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ekiz saattir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trendeyim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, tren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oş ve neşesi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Uzun bir yolculuktan sonra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İncesu’daydı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kadaşları arasında hiç tanıdığı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yo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İnsan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üç beş damla kan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; /Irmak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üç beş damla su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C) YÜKLEMİN YERİNE GÖRE CÜMLELE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in cümle içindeki yeri bakımından İKİ çeşit cümle vardır: Kurallı ve devrik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1. Kurallı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i sonda bulunan cümledir. Türkçede cümlenin ana öğesi ola yüklem genellikle sonda bulun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i tamamlayan öğeler, yüklemin önünde bulunurla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ükleme en yakın olan öğe vurgulanmak istenen öğ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eneme yazarı, her şeyden önce dili çok iyi kullanı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Nezih’i artık çarşıda gören yokt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461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2.Devrik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üklemi sonda bulunmayan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u çeşit cümlelere daha çok konuşma dilinde, şiirlerde, atasözleri ve deyimlere rast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Sakla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samanı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gelir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zamanı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ir ümit uğruna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yaşıyoruz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hepimi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Gün olur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kaybedebilir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insan sağlığın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Olsun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tık dökülen kanlarımın hepsi hel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500040"/>
            <a:ext cx="7675560" cy="41781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D. ANLAMINA GÖRE CÜML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nlamına göre cümleler ÜÇ türde incelen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1. Olumlu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argının gerçekleştiğini anlatan cümle türüdür. Yüklem yapma, yapılma veya olma bildir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eni bu güzel havalar mahvet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urt kocayınca köpeğin maskarası ol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Gerçek belirince yalan ortadan kalkar.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OT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apı bakımından olumsuz görünen bazı cümleler anlamca olumludur.  Yükleminde olumsuzluk anlamı taşıyan bir cümle “değil” edatı ile birleşince olumlu bir anlam kaz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Vatan al bayrağın dalgalandığı yer değil midi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O dönemde bunlar bilinmiyor değild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Nasıl cevap vereceğini bilmiyor değild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u tür cümlelere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yapıca olumsuz anlamca olumlu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ümleler den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000" y="285480"/>
            <a:ext cx="7675560" cy="4392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. Olumsuz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argının gerçekleşmediğini anlatan cümleler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-ma, -me” olumsuzluk eki, “değil” edatı ve “yok” ismi, cümleyi olumsuz yapan unsurlard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alih’i artık çarşıda gören yok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u güler yüzlü adam ben değili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Şimdi o dünyadan hiçbir haber y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74684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OT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Ne….ne….” bağlacı da cümlenin anlamını olumsuz yap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şair yaş döker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aşık ağ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sevenim var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soranım v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bir vefa gördüm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ne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fayda buld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c. Soru cümlesi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oru yoluyla bilgi almayı amaçlayan cümledir. Soru cümlesi olumlu veya olumsuz olabilir. Soru cümleleri genellikle  soru edatı, soru sıfatı, soru zamiri, soru zarfları ile yapılabilmekt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Neden coşkun akan suların sesi gittikçe dind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Hangi konuyu anlamadınız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Niçin bu kadar geç kaldınız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oktor içeride m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96140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UYGULAM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şağıdaki cümlelerin öğelerini bularak cümleleri; yapı, anlam, yüklemin yeri ve yüklemin türü bakımından inceleyeli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Vakit vakit ince bir yağmur serpeliyord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Vakit vakit ince bir yağmur serpeliyor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asit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kurallı cüm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olumlu cümled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CÜMLE TÜRLER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ümleler anlam ve yapılarına, yüklemin türüne ve yüklemin yerine göre şu şekilde sınıflandır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) Yapısına göre cümleler: Basit, birleşik, bağlı, sıral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) Yüklemin türüne göre: Fiil ve isim cüml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) Yüklemin yerine göre: Kurallı ve devri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) Anlamına göre: Olumlu, olumsuz, soru, ünl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Şimdi bu cümle türlerini ayrıntılı şekilde incelemeye çalışalı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2. Suçlar insanların yüzünde görünseydi, aynalar satılmazd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2. Suçlar insanların yüzünde görünseydi, aynalar satılmazd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 u="sng">
                <a:solidFill>
                  <a:srgbClr val="ff0000"/>
                </a:solidFill>
                <a:uFillTx/>
                <a:latin typeface="Calibri"/>
              </a:rPr>
              <a:t>Cümle öğeler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atılmazdı: Yük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ynalar: Nes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uçlar insanın yüzünde görünseydi: Zarf tümlec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şartlı birleşik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kurallı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olumsuz cümle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461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3. Çobanı aslan olan koyun sürüsü, çobanı koyun olan aslan sürüsünden daha iy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3. Çobanı aslan olan koyun sürüsü, çobanı koyun olan aslan sürüsünden daha iy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Cümlenin öğeler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aha iyidir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Yük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çobanı aslan olan koyun sürüsü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Öz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çobanı koyun olan aslan sürüsünden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Dolaylı tümle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basit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isim cümles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kurallı cüm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olumlu cümle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dim şarkıların bu kadar güz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elimelerinse kifayetsiz olduğun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u derde düşmeden önce. (Orhan Ve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Bu derde düşmeden önce şarkıların bu kadar güzel, kelimelerinse kifayetsiz olduğunu bilmezdim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74684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dim şarkıların bu kadar güz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elimelerinse kifayetsiz olduğun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u derde düşmeden önce. (Orhan Vel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Bu derde düşmeden önce şarkıların bu kadar güzel, kelimelerinse kifayetsiz olduğunu bilmezdim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 u="sng">
                <a:solidFill>
                  <a:srgbClr val="ff0000"/>
                </a:solidFill>
                <a:uFillTx/>
                <a:latin typeface="Calibri"/>
              </a:rPr>
              <a:t>Cümlenin öğeler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dim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Yükl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(Ben)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Gizli öz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şarkıların bu kadar güzel, kelimelerinse kifayetsiz olduğunu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Belirtili nes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u derde düşmeden önce: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Zarf tümlec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4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ilmezdim şarkıların bu kadar güz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elimelerinse kifayetsiz olduğun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u derde düşmeden önce. (Orhan Vel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(Bu derde düşmeden önce şarkıların bu kadar güzel, kelimelerinse kifayetsiz olduğunu bilmezdim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asit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devrik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olumsuz cüml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28760" y="714240"/>
            <a:ext cx="8496000" cy="394344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önlümü yayla yaptım Bingöl çobanları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84963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5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önlümü yayla yaptım Bingöl çobanları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 u="sng">
                <a:solidFill>
                  <a:srgbClr val="ff0000"/>
                </a:solidFill>
                <a:uFillTx/>
                <a:latin typeface="Calibri"/>
              </a:rPr>
              <a:t>Cümlenin öğeleri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yayla yaptım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Yük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(ben)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Gizli öz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önlümü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elirtili nes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ingöl çobanlarına: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Dolaylı tümleç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. Yapıs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asit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. Yüklemin türü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fiil cümles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c. Yüklemin yerine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devrik cüml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. Anlamına göre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olumlu cüml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68000" y="33984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YNAKÇ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EMİROSMANOĞLU, Ali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Türkçe- Kompozisyon,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Manisa 200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ERGİN, Muharrem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Üniversiteler İçin Türk Dili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Bayrak Yay., İstanbul 2007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RAHAN, Leyla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Türkçede Sözdizimi-Cümle Tahlilleri-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Akçağ Yay., Ankara 199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RASOY, Yakup vd., </a:t>
            </a:r>
            <a:r>
              <a:rPr b="0" i="1" lang="tr-TR" sz="2200" spc="-1" strike="noStrike">
                <a:solidFill>
                  <a:srgbClr val="000000"/>
                </a:solidFill>
                <a:latin typeface="Calibri"/>
              </a:rPr>
              <a:t>Uygulamalı Türk Dili ve Kompozisyon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Sel-ün Yay., Konya 2001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A. YAPISINA GÖRE CÜMLELE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1. Basit cümle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Yapısında isim veya fiil cinsinden tek yüklem bulunan cümle, basit cümledir. Bu cümleler tek bir yargı bildirirler. Yüklem dışındaki öğelerin sayısı önemli değil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ürkçede cümleler genellikle basit yapılıdı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Eğri cetvelden doğru çizgi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çıkmaz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kıllı düşman, akılsız dosttan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yeğdir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Güneş balçıkla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sıvanmaz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Sıcak yaz aylarını geçirmek için deniz kenarlarına, kırlara, tepelere kaçanlar, şimdi birer birer kışlıklarına </a:t>
            </a:r>
            <a:r>
              <a:rPr b="0" lang="tr-TR" sz="2000" spc="-1" strike="noStrike">
                <a:solidFill>
                  <a:srgbClr val="ff0000"/>
                </a:solidFill>
                <a:latin typeface="Calibri"/>
              </a:rPr>
              <a:t>dönüyorla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68000" y="285480"/>
            <a:ext cx="7675560" cy="4392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2. Birleşik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Bir ana cümle ve cümlenin anlamını tamamlayan bir veya daha fazla yardımcı cümle ile kurulan cümlelere den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İçinde birden fazla yargı bulunan cümlelerdir. Türkçede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şartlı birleşik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ki’li birleşik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ve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iç içe birleşik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olmak üzere 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ÜÇ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 çeşit birleşik cümle bulun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a. Şartlı birleşik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İçinde şart kipi bulunan cümledi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Derslerine düzenli çalışırsan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ınıfı kolay geçers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Pazar günü hava güzel olursa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gezmeye gideceğiz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Cihanın yurdu hep çiğnense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,/ Çiğnenmez senin yurdun. (M.A.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Artık demir almak günü gelmişse zamandan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/ Meçhule giden bir gemi kalkar bu liman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b. Ki’li birleşik cümle: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“ki” bağlacı ile yapılan birleşik cümledir. Ki bağlacı bir fiilden sonra gelince bağlama görevinde kullanılmış ol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ÖRNE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Duydum ki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unutmuşsun gözlerimin rengin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Kızıl havaları seyret ki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kşam olmak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Calibri"/>
              </a:rPr>
              <a:t>Ne büyüksün ki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kanın kurtarıyor tevhidi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68360" y="734760"/>
            <a:ext cx="760392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c. İç içe birleşik cümle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: Bir cümlenin herhangi bir görevle başka bir cümlede yer almasıyla meydana gelen birleşik cümledi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Edebiyat öğretmeni 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içinizde “Han Duvarları”nı okuyan var mı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, ded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Yaşamak zevki nedir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bilmez ölümden korka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Genel müdür, 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“Kimseye bayrama kadar izin verilmeyecek.”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ed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Emin Bey, sert bir ses tonuyla: </a:t>
            </a:r>
            <a:r>
              <a:rPr b="0" i="1" lang="tr-TR" sz="2000" spc="-1" strike="noStrike">
                <a:solidFill>
                  <a:srgbClr val="ff0000"/>
                </a:solidFill>
                <a:latin typeface="Calibri"/>
              </a:rPr>
              <a:t>“Sen kendini ne sanıyorsun.”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ed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74684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3. Bağlı cümle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ağlaçlarla birbirine bağlanan cümlelerdir. Bu cümleler “ki” veya diğer bağlaçlarla kurulur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ırılacak diye öyle korktum ki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Hava bulutlu ve Seyir tepesi rüzgarlı id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Gönlümle oturdum da hüzünlendim o yer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Zekasız kuvvet yıkabilir, fakat yapama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68000" y="734760"/>
            <a:ext cx="7675560" cy="39430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4. Sıralı cümleler: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Tek başına bir yargı bildiren cümlelerin bir anlam bütünlüğü içinde oluşturduğu cümleler topluluğud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İki veya daha fazla cümleden kurulur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Cümleler birbirinden virgül veya noktalı virgülle ayr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Tozlu ve soluk kırmızı perdelerden yakıcı bir güneş taşıyor, bütün odayı dolduruyord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arı çiçeğin saçları yolunmuş, kana bulanmışt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8360" y="285480"/>
            <a:ext cx="7603920" cy="439236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B. YÜKLEMİN TÜRÜNE GÖRE CÜML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Yüklemin türüne göre cümleler İKİ çeşittir.  Fiil cümlesi ve isim cüml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1. Fiil cümlesi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: Yüklemi çekimli bir fiil olan cümledir. Her çeşit iş, oluş ve hareket fiil cümleleri ile karşılanır. Bu sebeple fiil cümleleri isim cümlelerine göre daha fazla kullan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Calibri"/>
              </a:rPr>
              <a:t>ÖRNE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Ressamın içine birdenbire tarifi imkansız bir hüzün çökt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İkinci kata yayvan ve geniş merdivenlerle çıkıl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1T11:00:44Z</dcterms:created>
  <dc:creator>hsn</dc:creator>
  <dc:description/>
  <dc:language>en-US</dc:language>
  <cp:lastModifiedBy>pc</cp:lastModifiedBy>
  <dcterms:modified xsi:type="dcterms:W3CDTF">2018-04-23T19:21:53Z</dcterms:modified>
  <cp:revision>84</cp:revision>
  <dc:subject/>
  <dc:title>3.HAFTA-CÜMLE TÜRLERİ VE CÜMLE ÇÖZÜMLEMELERİ</dc:title>
</cp:coreProperties>
</file>